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050-15C7-40AE-9521-4A3A0DBE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55D-3F5B-436F-8E3C-15C9F292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F7A-EEE9-4BFC-A1F4-AD3D829E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B74-20C0-44A8-B120-BB43B931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AEC-B267-49CC-964E-AC81E1EC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F19-EE61-422C-B012-F930994C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794-018D-41D5-980B-07F8A487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D3B-F2D6-482D-A762-E1993571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D78-1C51-411A-A09D-3271B2D8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BD6-761D-4B43-944E-E5E7CA6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E87-47EF-4702-B333-49DD8E8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C38-C3D3-41E5-BE31-54C852A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024E-477D-4074-8DFF-4ADBBDC00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" Target="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" Target="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920" y="595440"/>
            <a:ext cx="9020160" cy="596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DC01-9337-4D82-A650-9DAAEBFF97D1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BD9345FA-E7C3-4139-87AA-AADDA9D3624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2760" y="3049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Best viewed in slide show mode (F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33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Failure to Pay Cash Call Notices Unp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572000" cy="2500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00720" y="1125360"/>
            <a:ext cx="4643280" cy="250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4572000" cy="2664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500720" y="3860640"/>
            <a:ext cx="4643280" cy="266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14AE5D20-7468-4276-995B-CA2ADBC4FDA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B7C-3CDF-4C1D-A4C8-DD70687372AB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95F-4BD5-48F0-871A-BB47065B9FE1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540EEB8C-100C-4A90-9BA9-FF8365AD8EE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Yearly Analysis + Issued &amp; With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968400"/>
            <a:ext cx="457200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4572000" cy="2438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3813120"/>
            <a:ext cx="4572000" cy="250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572000" y="3733920"/>
            <a:ext cx="44197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BC16-0AE1-49C6-9301-CAE5388AC93A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2F8689D0-8F0C-4D2E-9E35-8DCAFF3E92C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-Issued Cash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041480"/>
            <a:ext cx="4572000" cy="2384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572000" cy="2446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076480" y="3581280"/>
            <a:ext cx="4991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CCBE-8450-4333-80D6-AB2DF798318F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419687FC-0615-43AA-8A53-BBE26481760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vised Cash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1041480"/>
            <a:ext cx="4572000" cy="2384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572000" cy="245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124000" y="3581280"/>
            <a:ext cx="4896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2031-696D-413E-8BE6-A46049BBC907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A0F1047D-FBE7-43DC-8ED6-0D0DE14647D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080" y="990720"/>
            <a:ext cx="8997840" cy="5545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ssued Cash Calls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ecurity Renewals Monthly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2998-F6BD-4B33-AE4E-9EF02C3DCDBA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30C0B8F2-2404-4BB9-9126-DE52E95BF3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338120"/>
            <a:ext cx="87854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228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te Paid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1BF1-DDCD-4A56-918D-20AE882595B1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B850BC8E-1F46-4E78-BEAB-C3D3A6D7D67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5600" y="1868400"/>
            <a:ext cx="86313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F38A-C783-437F-B570-738FBDE01F50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B53F6B78-B3A0-4FC4-AC11-1014CC3712D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143000"/>
            <a:ext cx="86104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3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Summary Page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5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Cash Collection 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7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Cash Call Stats - Monthly &amp; Yearl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8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Cash Call Stats - Issued &amp;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9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Cash Call Stats - Failure to Pay Cash Call No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10 - Cash Call Stats - Failure to Pay Cash Call Notices Un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11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Cash Call Stats - Yearly Analysis + Issued &amp; Withdra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12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Cash Call Stats - Re-issued Cash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13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Cash Call Stats - Revised Cash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14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Cash Call Stats - % Cash Calls Iss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15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Security Renewals Monthly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 16 -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Late Paid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91440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99ff"/>
                </a:solidFill>
                <a:latin typeface="Times New Roman"/>
              </a:rPr>
              <a:t>Click on each link to be taken to the page.  (in slide show view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6B98-7DE1-4CA3-B751-9D82E38D72BD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C4C0D13B-0FFC-4395-A32A-B2496A7298F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0520" y="777960"/>
            <a:ext cx="91029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9720" y="1400040"/>
            <a:ext cx="7324560" cy="405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6073-10C4-4EBA-9655-A55437A422AC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32236289-E368-450D-A4E7-45EA0EB4B34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ollection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D477-9A28-407F-BDBB-C5031E57AFB0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90847980-1EE8-486A-9765-7E1BED97D48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8000" y="1158840"/>
            <a:ext cx="4248000" cy="2614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356000" y="1158840"/>
            <a:ext cx="4668840" cy="2597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08000" y="3778200"/>
            <a:ext cx="4319640" cy="2884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500720" y="3860640"/>
            <a:ext cx="44510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4800" y="1319040"/>
            <a:ext cx="7934400" cy="4219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FC51-06A9-4287-993F-8E806CC316F5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EC4FF552-1884-4B8B-AB20-B0805A6D1FA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39880"/>
            <a:ext cx="4572000" cy="2585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843120"/>
            <a:ext cx="4572000" cy="257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895560"/>
            <a:ext cx="4572000" cy="2598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667F-6CB5-486B-8455-BE61FBAFDD48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BC6D5A41-7798-4F67-AB76-DCA42A5F2AA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Monthly &amp; Yearl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93600"/>
            <a:ext cx="4572000" cy="2433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993600"/>
            <a:ext cx="4572000" cy="243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4572000" cy="272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DDF0-2E27-4A0C-8ED5-415437E72FD9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74F74232-759D-4BB9-AB33-5F3875F90E1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ssued &amp; P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870120"/>
            <a:ext cx="4643280" cy="270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911160"/>
            <a:ext cx="4572000" cy="265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2C3-764A-4030-8C88-3DE2A5945B97}" type="datetime3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8FA020D5-F956-44FA-A488-2B78687E720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493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Failure to Pay Cash Call No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9:19:24Z</dcterms:created>
  <dc:creator>dm216</dc:creator>
  <dc:description/>
  <dc:language>en-US</dc:language>
  <cp:lastModifiedBy>James.J.Sweeney</cp:lastModifiedBy>
  <dcterms:modified xsi:type="dcterms:W3CDTF">2008-11-07T15:50:28Z</dcterms:modified>
  <cp:revision>82</cp:revision>
  <dc:subject/>
  <dc:title>PowerPoint Presentation</dc:title>
</cp:coreProperties>
</file>