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775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7080" y="3830760"/>
            <a:ext cx="775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708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112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9320" y="156852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1560" y="156852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7080" y="383076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9320" y="383076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1560" y="383076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7080" y="1568520"/>
            <a:ext cx="7755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775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7080" y="154080"/>
            <a:ext cx="775512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708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7080" y="1568520"/>
            <a:ext cx="7755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112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7080" y="3830760"/>
            <a:ext cx="775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775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7080" y="3830760"/>
            <a:ext cx="775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708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112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9320" y="156852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1560" y="156852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57080" y="383076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9320" y="383076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1560" y="3830760"/>
            <a:ext cx="24969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775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7080" y="154080"/>
            <a:ext cx="775512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708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1120" y="383076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1120" y="1568520"/>
            <a:ext cx="37843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7080" y="3830760"/>
            <a:ext cx="775512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7040" y="6400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AA30-D7D3-4E4A-9797-29B37192699F}" type="slidenum"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0600" y="1008000"/>
            <a:ext cx="8915400" cy="0"/>
          </a:xfrm>
          <a:prstGeom prst="line">
            <a:avLst/>
          </a:prstGeom>
          <a:ln w="12600">
            <a:solidFill>
              <a:srgbClr val="0066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15200" y="6202440"/>
            <a:ext cx="1523880" cy="4032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15200" y="6211800"/>
            <a:ext cx="1523880" cy="403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20600" y="128520"/>
            <a:ext cx="8915400" cy="6629400"/>
          </a:xfrm>
          <a:prstGeom prst="roundRect">
            <a:avLst>
              <a:gd name="adj" fmla="val 3398"/>
            </a:avLst>
          </a:prstGeom>
          <a:noFill/>
          <a:ln w="12600">
            <a:solidFill>
              <a:srgbClr val="006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57080" y="1568520"/>
            <a:ext cx="775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1" marL="399960" indent="-285480">
              <a:lnSpc>
                <a:spcPct val="120000"/>
              </a:lnSpc>
              <a:spcBef>
                <a:spcPts val="2001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2" marL="738360" indent="-223920">
              <a:lnSpc>
                <a:spcPct val="120000"/>
              </a:lnSpc>
              <a:spcBef>
                <a:spcPts val="2001"/>
              </a:spcBef>
              <a:buClr>
                <a:srgbClr val="0079c1"/>
              </a:buClr>
              <a:buFont typeface="Arial"/>
              <a:buChar char="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3" marL="1030320" indent="-177840">
              <a:lnSpc>
                <a:spcPct val="120000"/>
              </a:lnSpc>
              <a:spcBef>
                <a:spcPts val="2001"/>
              </a:spcBef>
              <a:buClr>
                <a:srgbClr val="0079c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Zapf Dingba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Zapf Dingba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60" y="52560"/>
            <a:ext cx="9042480" cy="6719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5257800"/>
            <a:ext cx="5230800" cy="0"/>
          </a:xfrm>
          <a:prstGeom prst="line">
            <a:avLst/>
          </a:prstGeom>
          <a:ln w="12600">
            <a:solidFill>
              <a:srgbClr val="006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8640" y="6004080"/>
            <a:ext cx="2514600" cy="666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270320"/>
            <a:ext cx="53416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5267160" cy="0"/>
          </a:xfrm>
          <a:prstGeom prst="line">
            <a:avLst/>
          </a:prstGeom>
          <a:ln w="12600">
            <a:solidFill>
              <a:srgbClr val="006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1" marL="114480" indent="0" algn="ctr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4440" algn="ctr">
              <a:spcBef>
                <a:spcPts val="524"/>
              </a:spcBef>
              <a:buClr>
                <a:srgbClr val="0079c1"/>
              </a:buClr>
              <a:buFont typeface="Arial"/>
              <a:buChar char="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852480" algn="ctr">
              <a:spcBef>
                <a:spcPts val="451"/>
              </a:spcBef>
              <a:buClr>
                <a:srgbClr val="0079c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2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4037040"/>
            <a:ext cx="79502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9c1"/>
                </a:solidFill>
                <a:latin typeface="Arial"/>
              </a:rPr>
              <a:t>Review of the UNC Post-emergency Arrangements</a:t>
            </a:r>
            <a:br>
              <a:rPr sz="2300"/>
            </a:br>
            <a:r>
              <a:rPr b="0" i="1" lang="en-US" sz="2300" spc="-1" strike="noStrike">
                <a:solidFill>
                  <a:srgbClr val="0079c1"/>
                </a:solidFill>
                <a:latin typeface="Arial"/>
              </a:rPr>
              <a:t>Workshop 1</a:t>
            </a:r>
            <a:endParaRPr b="0" lang="en-US" sz="23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0920" y="5409720"/>
            <a:ext cx="53053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March 2009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7080" y="1568520"/>
            <a:ext cx="77551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79c1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79c1"/>
                </a:solidFill>
                <a:latin typeface="Arial"/>
              </a:rPr>
              <a:t>Any questions (so far) ?</a:t>
            </a:r>
            <a:endParaRPr b="1" lang="en-US" sz="3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r>
              <a:rPr b="0" lang="en-US" sz="2400" spc="-1" strike="noStrike">
                <a:solidFill>
                  <a:srgbClr val="0079c1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093680"/>
            <a:ext cx="84693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proposals have been made to the UNC Emergency Arrangements in relation to industry concerns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atest Proposal, Ofgem’s 0149a decision letter advised it would welcome further progression on:- 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2" marL="738360" indent="-223920">
              <a:lnSpc>
                <a:spcPct val="80000"/>
              </a:lnSpc>
              <a:spcBef>
                <a:spcPts val="601"/>
              </a:spcBef>
              <a:buClr>
                <a:srgbClr val="0079c1"/>
              </a:buClr>
              <a:buFont typeface="Arial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acting non-UKCS supplies into the UK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223920">
              <a:lnSpc>
                <a:spcPct val="80000"/>
              </a:lnSpc>
              <a:spcBef>
                <a:spcPts val="601"/>
              </a:spcBef>
              <a:buClr>
                <a:srgbClr val="0079c1"/>
              </a:buClr>
              <a:buFont typeface="Arial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roduction of dynamic pricing an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223920">
              <a:lnSpc>
                <a:spcPct val="80000"/>
              </a:lnSpc>
              <a:spcBef>
                <a:spcPts val="524"/>
              </a:spcBef>
              <a:buClr>
                <a:srgbClr val="0079c1"/>
              </a:buClr>
              <a:buFont typeface="Arial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igating the effects of potentially spiralling pric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Grid remains mindful of concerns raised by the community and Ofgem during the progression of 149/149a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Grid believes there is merit in reviewing and modifying the existing UNC Post-emergency ‘Claims’ process with the objective of addressing some of those concerns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rawman has been drafted to consider pragmatic changes for discussion and development with the community at the Transmission Workstre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79c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Note: proposed changes would have no effect on the role of the NEC nor shippers’ GSMR obligations)</a:t>
            </a:r>
            <a:endParaRPr b="1" lang="en-US" sz="14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r>
              <a:rPr b="0" lang="en-US" sz="2400" spc="-1" strike="noStrike">
                <a:solidFill>
                  <a:srgbClr val="0079c1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suggested 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182600"/>
            <a:ext cx="77547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225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9c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/develop at Transmission Workstream – February/May 2009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  <a:p>
            <a:pPr lvl="2" marL="738360" indent="-223920">
              <a:lnSpc>
                <a:spcPct val="110000"/>
              </a:lnSpc>
              <a:spcBef>
                <a:spcPts val="675"/>
              </a:spcBef>
              <a:buClr>
                <a:srgbClr val="0079c1"/>
              </a:buClr>
              <a:buFont typeface="Arial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’ in March/April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223920">
              <a:lnSpc>
                <a:spcPct val="110000"/>
              </a:lnSpc>
              <a:spcBef>
                <a:spcPts val="675"/>
              </a:spcBef>
              <a:buClr>
                <a:srgbClr val="0079c1"/>
              </a:buClr>
              <a:buFont typeface="Arial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be a requirement for additional meetings; for example, to define/agree detailed claim valid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draft proposal to UNC Mod Panel - May/June 2009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  <a:p>
            <a:pPr lvl="2" marL="738360" indent="-223920">
              <a:lnSpc>
                <a:spcPct val="110000"/>
              </a:lnSpc>
              <a:spcBef>
                <a:spcPts val="675"/>
              </a:spcBef>
              <a:buClr>
                <a:srgbClr val="0079c1"/>
              </a:buClr>
              <a:buFont typeface="Arial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mmend to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Mod Report &amp; Mod Panel - July/August 2009  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gem decision August/September 2009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tober 2009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br>
              <a:rPr sz="20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primar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2400" y="1120320"/>
            <a:ext cx="868356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687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and implement robust, well defined UNC Post-emergency Claims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acilitate and, recognise shippers that: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500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t in place commercial arrangements prior to a GDE taking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500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dditional supplies into the UK with a fair expectation that they will receive appropriate financial recompense where appropr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500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dditional firm demand-side reduction prior to entering into, or during, a GDE Stage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500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 to address their im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troduce: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500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-fencing of the costs of providing additional supplies/reducing demand during a G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500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pened cost apportionment as a result of revised post-emergency claims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75000"/>
              </a:lnSpc>
              <a:spcBef>
                <a:spcPts val="1500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transparency (of costs and prices) through the use of OCM Physical Market Offers during a G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br>
              <a:rPr sz="20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existing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280" y="2798640"/>
            <a:ext cx="5335560" cy="1444680"/>
          </a:xfrm>
          <a:prstGeom prst="rect">
            <a:avLst/>
          </a:prstGeom>
          <a:noFill/>
          <a:ln w="12600">
            <a:solidFill>
              <a:srgbClr val="9dc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User may submit a claim (for each Gas Day within a GDE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recover financial loss (in excess of frozen SAP) for delivery of gas to the Tot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only claim against its long Daily Imbalance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9760" y="1165320"/>
            <a:ext cx="5340240" cy="1195200"/>
          </a:xfrm>
          <a:prstGeom prst="rect">
            <a:avLst/>
          </a:prstGeom>
          <a:noFill/>
          <a:ln w="12600">
            <a:solidFill>
              <a:srgbClr val="9dc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s Deficit Emergency (Stage 2+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with long imbalances are cashed-out at frozen 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iggers UNC Section Q.4.2.6 (Post Emergency Clai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5160" y="2408400"/>
            <a:ext cx="1292400" cy="336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dccf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960" y="4660920"/>
            <a:ext cx="5340600" cy="1485720"/>
          </a:xfrm>
          <a:prstGeom prst="rect">
            <a:avLst/>
          </a:prstGeom>
          <a:noFill/>
          <a:ln w="12600">
            <a:solidFill>
              <a:srgbClr val="9dc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Grid 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ll appoint a ‘claims reviewer’ to assess each cla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 claims are subsequently paid and recovered through Balancing Neutr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4880" y="4289400"/>
            <a:ext cx="129204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dccf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05360" y="1165320"/>
            <a:ext cx="3044880" cy="4981320"/>
          </a:xfrm>
          <a:prstGeom prst="rect">
            <a:avLst/>
          </a:prstGeom>
          <a:noFill/>
          <a:ln w="12600">
            <a:solidFill>
              <a:srgbClr val="9dcc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no defined timescales to these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no market transparency of the potential costs of the emergency or commercial exposure until the claims are processed through Balancing Neutrality (possibly several months after the G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s have little guarantee that they will receive payment at the claimed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ergency claims assessment (validation) rules are not clearly 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57b5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very of costs is against all Users; including those with a long Daily 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r>
              <a:rPr b="0" lang="en-US" sz="2400" spc="-1" strike="noStrike">
                <a:solidFill>
                  <a:srgbClr val="0079c1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proposed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7080" y="1142640"/>
            <a:ext cx="775512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ency cashout prices</a:t>
            </a:r>
            <a:endParaRPr b="1" lang="en-US" sz="1400" spc="-1" strike="noStrike">
              <a:solidFill>
                <a:srgbClr val="0079c1"/>
              </a:solidFill>
              <a:latin typeface="Arial"/>
            </a:endParaRPr>
          </a:p>
          <a:p>
            <a:pPr lvl="1" marL="399960" indent="-285480">
              <a:lnSpc>
                <a:spcPct val="95000"/>
              </a:lnSpc>
              <a:spcBef>
                <a:spcPts val="1624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No chang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are proposed to the derivation of the emergency cashout prices (frozen at Stage 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-emergency Arrangements - claims</a:t>
            </a:r>
            <a:endParaRPr b="1" lang="en-US" sz="1400" spc="-1" strike="noStrike">
              <a:solidFill>
                <a:srgbClr val="0079c1"/>
              </a:solidFill>
              <a:latin typeface="Arial"/>
            </a:endParaRPr>
          </a:p>
          <a:p>
            <a:pPr lvl="1" marL="39996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In addition to UNC section Q section 4.2.6: e.g. appointment of an individual claims agent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95000"/>
              </a:lnSpc>
              <a:spcBef>
                <a:spcPts val="1624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order to submit emergency claims, shippers will be required to have posted additional supplies and/or demand-side reduction (quantity and price) as offers to sell on the OCM physical market during the GD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95000"/>
              </a:lnSpc>
              <a:spcBef>
                <a:spcPts val="1624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physical offers might be taken as trades by shippers that are short – cleared through existing OCM rules and therefore would not be eligible for progression through the revised claims arrangem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95000"/>
              </a:lnSpc>
              <a:spcBef>
                <a:spcPts val="1624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offers remaining on the OCM at the end of each Gas Day of the GDE can be submitted as potential claims – however, only the quantity of gas over-delivered by that shipper (for each Gas Day) for the duration of  the GDE (daily balance) can be claimed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95000"/>
              </a:lnSpc>
              <a:spcBef>
                <a:spcPts val="1624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osts of the Σ claims will be targeted against shippers that have a short imbalance position; based on the weighted average price (p/kWh) of all valid emergency claims multiplied by the shipper’s short imbalance quantity (kW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95000"/>
              </a:lnSpc>
              <a:spcBef>
                <a:spcPts val="1624"/>
              </a:spcBef>
              <a:buClr>
                <a:srgbClr val="0079c1"/>
              </a:buClr>
              <a:buSzPct val="11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under-over recovery of emergency claims costs will be smeared across all shippers through Balancing Neutra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br>
              <a:rPr sz="20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overview of proposed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0480" y="1294200"/>
            <a:ext cx="7588800" cy="4277160"/>
            <a:chOff x="690480" y="1294200"/>
            <a:chExt cx="7588800" cy="4277160"/>
          </a:xfrm>
        </p:grpSpPr>
        <p:sp>
          <p:nvSpPr>
            <p:cNvPr id="104" name=""/>
            <p:cNvSpPr/>
            <p:nvPr/>
          </p:nvSpPr>
          <p:spPr>
            <a:xfrm>
              <a:off x="806760" y="2577600"/>
              <a:ext cx="2483640" cy="21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mergency cashou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Daily imbalance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ort @ SMP Bu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ng @ SAP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ices frozen @ GDE Stage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0480" y="1294200"/>
              <a:ext cx="7569720" cy="54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ly emergency cashout and emergency claims process following a GDE (Stage 2+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2360" y="2577600"/>
              <a:ext cx="1978920" cy="21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mergency Claims (1)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st-target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Short imbalance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Emergency Claims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Neutrality Charge”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wapoec * imbalance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31000" y="2577600"/>
              <a:ext cx="2348280" cy="21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mergency Claims (2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der/over recovery of cost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f any under/over- recovery of emergency claims costs from previous  step then residue is apportioned through Neutra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7200" y="1905480"/>
              <a:ext cx="19440" cy="36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760" y="4899240"/>
              <a:ext cx="248436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o UNC changes are proposed</a:t>
              </a:r>
              <a:r>
                <a:rPr b="0" i="1" lang="en-US" sz="1200" spc="-1" strike="noStrike">
                  <a:solidFill>
                    <a:srgbClr val="0079c1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0560" y="2271960"/>
              <a:ext cx="543240" cy="30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dccf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7880" y="1905480"/>
              <a:ext cx="543600" cy="672120"/>
            </a:xfrm>
            <a:prstGeom prst="downArrow">
              <a:avLst>
                <a:gd name="adj1" fmla="val 50000"/>
                <a:gd name="adj2" fmla="val 30911"/>
              </a:avLst>
            </a:prstGeom>
            <a:solidFill>
              <a:srgbClr val="9dccf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00880" y="3371760"/>
              <a:ext cx="291240" cy="67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dccf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82360" y="4899240"/>
              <a:ext cx="469692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posed UNC changes to post emergency claims arrang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01800" y="1905480"/>
              <a:ext cx="343548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id OCM physical offers (not taken as trad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br>
              <a:rPr sz="20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1080" y="1192320"/>
            <a:ext cx="8781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mergency cashout price (s) remain unchanged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es several key concerns raised during the progression of 149/149a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non-UKCS shippers with greater confidence they will receive payment for additional supplies of gas 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s the existing incentives for a shipper to address its short imbalance position 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sing the OCM physical market in this manner facilitates the transparency of the prices and costs of gas during an emergency and allows shippers to estimate their commercial exposure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-fences the costs of the emergency and extends the period over which the costs of the emergency are invoiced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require any material changes to the NEC Safety Case nor, impinge on shippers’ obligations to comply with their safety obligations / NEC instructions</a:t>
            </a:r>
            <a:endParaRPr b="1" lang="en-US" sz="16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7080" y="154080"/>
            <a:ext cx="77551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9c1"/>
                </a:solidFill>
                <a:latin typeface="Arial"/>
              </a:rPr>
              <a:t>Review of UNC Post-emergency Arrangements</a:t>
            </a:r>
            <a:br>
              <a:rPr sz="2000"/>
            </a:br>
            <a:r>
              <a:rPr b="0" i="1" lang="en-US" sz="2400" spc="-1" strike="noStrike">
                <a:solidFill>
                  <a:srgbClr val="0079c1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1080" y="1109520"/>
            <a:ext cx="87818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2126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9c1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st targeting of emergency claims against those shippers with a short imbalance  following a GDE might be viewed as inappropriate to the extent that a shipper has the ability to mitigate its risk</a:t>
            </a:r>
            <a:endParaRPr b="1" lang="en-US" sz="17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126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tilisation of the OCM physical market during an emergency in this manner might be construed as discriminatory by certain User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.g. those without physical capability</a:t>
            </a:r>
            <a:endParaRPr b="1" lang="en-US" sz="1700" spc="-1" strike="noStrike">
              <a:solidFill>
                <a:srgbClr val="0079c1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126"/>
              </a:spcBef>
              <a:buClr>
                <a:srgbClr val="0057b5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ayed timescales for cost recovery (through Claims process) might continue to deter non-UKCS shippers from committing additional supplies to the UK during a GDE </a:t>
            </a:r>
            <a:endParaRPr b="1" lang="en-US" sz="1700" spc="-1" strike="noStrike">
              <a:solidFill>
                <a:srgbClr val="0079c1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39:14Z</dcterms:created>
  <dc:creator/>
  <dc:description/>
  <dc:language>en-US</dc:language>
  <cp:lastModifiedBy>steve.pownall</cp:lastModifiedBy>
  <dcterms:modified xsi:type="dcterms:W3CDTF">2009-03-13T07:47:42Z</dcterms:modified>
  <cp:revision>109</cp:revision>
  <dc:subject/>
  <dc:title>Slide 1</dc:title>
</cp:coreProperties>
</file>