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275"/>
          <a:stretch/>
        </p:blipFill>
        <p:spPr>
          <a:xfrm>
            <a:off x="6980400" y="5846760"/>
            <a:ext cx="2266920" cy="824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702480"/>
            <a:ext cx="9144000" cy="17928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9440" y="106668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96920" indent="-38088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7440" indent="-38088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79280" cy="6713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9440" y="220500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676920"/>
            <a:ext cx="9144000" cy="179640"/>
          </a:xfrm>
          <a:prstGeom prst="rect">
            <a:avLst/>
          </a:prstGeom>
          <a:solidFill>
            <a:srgbClr val="649f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63440" algn="ctr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44440" algn="ctr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47760" algn="ctr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C Modification Proposal 0202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ational Grid Dis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79080" y="2529000"/>
            <a:ext cx="856764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rovement to More Frequent Readings Provisions to allow benefits of AM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Workstream – 28 February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ris Wa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al and Read Volume Im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rt Metering – Policy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urrent More Frequent Reading Prov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PD Section M3.7 (Mod 0693 – Nov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Read Meter – one read each 7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2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Read Meter (Larger Supply Point) – one read each 14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6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Read Meter (Smaller Supply Point) – one read each 63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8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ious frequencies (pre 06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Read Meter – min 23 days from previou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5.9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Read Meter – min 5 months from previous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8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 readings per 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039680"/>
            <a:ext cx="85680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TPD Section M3.7 (Mod 0693 – Nov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Monthly Read Meter – one read each 7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52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nnual Read Meter (Larger Supply Point) – one read each 14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26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Annual Read Meter (Smaller Supply Point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omestic flag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– one read each 63 day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5.8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nual Read Meter (Smaller Supply Point) Non-domestic flag – one read each 27 day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3.5 reading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d Volume Im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39680"/>
            <a:ext cx="85680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 2008 – 381,859 SSP meters flagged non-dome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maximum frequency 1 in 63 da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365/63)*381,859 = 2,212,358 (ann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,061 (average da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maximum frequency 1 in 27 da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365/27)*381,859 = 5,162,168 (ann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,143 (average da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tially a 8,000 read increase on ‘contractually allowable’ daily read volu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ggested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39680"/>
            <a:ext cx="86108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mprovement to gas profiling and allocation by GTs due to a more detailed read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Quantity (A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annual figure derived from a single pair of reads at least six months and 1 day apart, no more than 3 years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 of consumptions for the period, weather-adjusted back to seasonal normal temperatures and corrected to 365 day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reads between those two “calculation reads” do not contribute to the quality of the 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Q determines EU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s allocation based on a single annual load profile for the E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 from the Demand Estimation Process and the NDM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not rely on historic meter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benefits to allocation of sites to Winter Annual Ratio (WAR)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WAR bands are only applicable to Supply Points with AQ &gt; 293,000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nefits to User -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568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 User systems to deliver readings directly to the Transp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I&amp;C portfolio single read frequency (monthly) can b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no ‘filtering’ required to meet existing read frequency requirements for S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mart Metering – Policy 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9080" y="1191960"/>
            <a:ext cx="856764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R - Energy Billing and Metering (Energy White Paper) -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f smart meters/AMR for business customers above a certain energy usage threshold (gas consumer &gt;73,200kWh), where it has been proven to be cost effective – within 5 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f smart meters at remaining small business &amp; domestic (&lt;73,200kWh) premises within next 10 years -  3 policy options being deb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tiv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 year ro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question regarding impact on industry settlement processes and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 document due Q1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39680"/>
            <a:ext cx="856800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s the maximum volume of reads able to be submitted to the Transporter by average of 8,000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benefit to UNC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ling and allocation at Smaller Suppl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conciliation of Smaller Suppl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Q de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tial benefits for U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66cc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industry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4:01:29Z</dcterms:created>
  <dc:creator/>
  <dc:description/>
  <dc:language>en-US</dc:language>
  <cp:lastModifiedBy>phil.lucas</cp:lastModifiedBy>
  <dcterms:modified xsi:type="dcterms:W3CDTF">2008-02-25T15:37:11Z</dcterms:modified>
  <cp:revision>90</cp:revision>
  <dc:subject/>
  <dc:title>July 2007 UK and Distribution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 by">
    <vt:lpwstr/>
  </property>
  <property fmtid="{D5CDD505-2E9C-101B-9397-08002B2CF9AE}" pid="3" name="ApprovedBy">
    <vt:lpwstr/>
  </property>
  <property fmtid="{D5CDD505-2E9C-101B-9397-08002B2CF9AE}" pid="4" name="Associate info">
    <vt:lpwstr>, </vt:lpwstr>
  </property>
  <property fmtid="{D5CDD505-2E9C-101B-9397-08002B2CF9AE}" pid="5" name="Audience">
    <vt:lpwstr>;#GD;#UK;#</vt:lpwstr>
  </property>
  <property fmtid="{D5CDD505-2E9C-101B-9397-08002B2CF9AE}" pid="6" name="Contarct/Licence">
    <vt:lpwstr>Uniform Network Code</vt:lpwstr>
  </property>
  <property fmtid="{D5CDD505-2E9C-101B-9397-08002B2CF9AE}" pid="7" name="Description0">
    <vt:lpwstr/>
  </property>
  <property fmtid="{D5CDD505-2E9C-101B-9397-08002B2CF9AE}" pid="8" name="Document Type">
    <vt:lpwstr>Presentation</vt:lpwstr>
  </property>
  <property fmtid="{D5CDD505-2E9C-101B-9397-08002B2CF9AE}" pid="9" name="Forum">
    <vt:lpwstr>Distribution Workstream</vt:lpwstr>
  </property>
  <property fmtid="{D5CDD505-2E9C-101B-9397-08002B2CF9AE}" pid="10" name="Industry Arrangments">
    <vt:lpwstr/>
  </property>
  <property fmtid="{D5CDD505-2E9C-101B-9397-08002B2CF9AE}" pid="11" name="Keywords0">
    <vt:lpwstr/>
  </property>
  <property fmtid="{D5CDD505-2E9C-101B-9397-08002B2CF9AE}" pid="12" name="Month">
    <vt:lpwstr>July</vt:lpwstr>
  </property>
  <property fmtid="{D5CDD505-2E9C-101B-9397-08002B2CF9AE}" pid="13" name="Primary author">
    <vt:lpwstr/>
  </property>
  <property fmtid="{D5CDD505-2E9C-101B-9397-08002B2CF9AE}" pid="14" name="Primary author email">
    <vt:lpwstr/>
  </property>
  <property fmtid="{D5CDD505-2E9C-101B-9397-08002B2CF9AE}" pid="15" name="PrimaryAuthor">
    <vt:lpwstr/>
  </property>
  <property fmtid="{D5CDD505-2E9C-101B-9397-08002B2CF9AE}" pid="16" name="PrimaryAuthorEmail">
    <vt:lpwstr/>
  </property>
  <property fmtid="{D5CDD505-2E9C-101B-9397-08002B2CF9AE}" pid="17" name="Security Classification">
    <vt:lpwstr>National Grid Confidential</vt:lpwstr>
  </property>
  <property fmtid="{D5CDD505-2E9C-101B-9397-08002B2CF9AE}" pid="18" name="SecurityClassification">
    <vt:lpwstr>Restricted to National Grid</vt:lpwstr>
  </property>
  <property fmtid="{D5CDD505-2E9C-101B-9397-08002B2CF9AE}" pid="19" name="Source">
    <vt:lpwstr>UKD</vt:lpwstr>
  </property>
  <property fmtid="{D5CDD505-2E9C-101B-9397-08002B2CF9AE}" pid="20" name="Status">
    <vt:lpwstr>Final/Approved</vt:lpwstr>
  </property>
  <property fmtid="{D5CDD505-2E9C-101B-9397-08002B2CF9AE}" pid="21" name="Subject0">
    <vt:lpwstr>MP 0202 Workstream presentation</vt:lpwstr>
  </property>
  <property fmtid="{D5CDD505-2E9C-101B-9397-08002B2CF9AE}" pid="22" name="Weblinks and photos">
    <vt:lpwstr>, </vt:lpwstr>
  </property>
  <property fmtid="{D5CDD505-2E9C-101B-9397-08002B2CF9AE}" pid="23" name="_NewReviewCycle">
    <vt:lpwstr/>
  </property>
</Properties>
</file>