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00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292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08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00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292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79080" y="0"/>
            <a:ext cx="8567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600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292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908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600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292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0"/>
            <a:ext cx="8567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275"/>
          <a:stretch/>
        </p:blipFill>
        <p:spPr>
          <a:xfrm>
            <a:off x="6980400" y="5846760"/>
            <a:ext cx="2266920" cy="824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702480"/>
            <a:ext cx="9144000" cy="17928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9440" y="106668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96920" indent="-38088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7440" indent="-38088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744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744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79280" cy="6713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9080" y="838080"/>
            <a:ext cx="8567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440" y="220500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76920"/>
            <a:ext cx="9144000" cy="179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63440" algn="ctr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44440" algn="ctr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47760" algn="ctr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477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477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9080" y="838080"/>
            <a:ext cx="8567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C Modification Proposal 0192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ational Grid Dis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9080" y="2529000"/>
            <a:ext cx="856764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osal 0182: “ Introduction of DNO obligations to facilitate resolution of unresolved USRV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C Distribution Workstream – 28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ebruary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ris Wa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aft High level Business Rul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k stop’ terms requiring DNO to assume role of ‘last resort’ resolver of U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definition required when USRV status changes (becomes [x]SR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not preclude User from entering into any ‘non-code’ arrangements with xoserve or any other agent to facilitate resolution of U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aft High level Business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191960"/>
            <a:ext cx="856764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mal period before statu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must have opportunity and incentive to re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Mods 0637 &amp; 014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ween 18 months – 2 years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ry obligation to resolve USRV is with the User (who was registered when ‘filter failure’ occur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idence that clearance rates continues up to 2 years then slows significant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aft High level Business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9080" y="1191960"/>
            <a:ext cx="856764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on status change USRV User to provide relevant data (where possible) upon request from 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on status change User may still resolve (up to point that DNO approves [x]SRV) but charge still a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sonable endeavours’ provision for DNO to resolve [x]SR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DNO’s discretion, where not practicable to resolve, deemed allocation applied and [x]SRV lap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raft High level Business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9080" y="1191960"/>
            <a:ext cx="856764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site visit necessary, relevant User to facilitate access to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NO decision on resolution and subsequent billable volumes not subject to query in respect of the volume pursuant to TPD S4 by any User. DNO decis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ice chargeable irrespective of whether [x]SRV resolved or deemed allocation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lution of [x]SRV may result in new USRV. DNO will approve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4:01:29Z</dcterms:created>
  <dc:creator/>
  <dc:description/>
  <dc:language>en-US</dc:language>
  <cp:lastModifiedBy>chris.warner</cp:lastModifiedBy>
  <dcterms:modified xsi:type="dcterms:W3CDTF">2008-02-25T12:29:46Z</dcterms:modified>
  <cp:revision>82</cp:revision>
  <dc:subject/>
  <dc:title>July 2007 UK and Distribution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 by">
    <vt:lpwstr/>
  </property>
  <property fmtid="{D5CDD505-2E9C-101B-9397-08002B2CF9AE}" pid="3" name="ApprovedBy">
    <vt:lpwstr/>
  </property>
  <property fmtid="{D5CDD505-2E9C-101B-9397-08002B2CF9AE}" pid="4" name="Associate info">
    <vt:lpwstr>, </vt:lpwstr>
  </property>
  <property fmtid="{D5CDD505-2E9C-101B-9397-08002B2CF9AE}" pid="5" name="Audience">
    <vt:lpwstr>;#GD;#UK;#</vt:lpwstr>
  </property>
  <property fmtid="{D5CDD505-2E9C-101B-9397-08002B2CF9AE}" pid="6" name="Contarct/Licence">
    <vt:lpwstr>Uniform Network Code</vt:lpwstr>
  </property>
  <property fmtid="{D5CDD505-2E9C-101B-9397-08002B2CF9AE}" pid="7" name="Description0">
    <vt:lpwstr>July 07 UK and Distribution slide pack</vt:lpwstr>
  </property>
  <property fmtid="{D5CDD505-2E9C-101B-9397-08002B2CF9AE}" pid="8" name="Document Type">
    <vt:lpwstr>Presentation</vt:lpwstr>
  </property>
  <property fmtid="{D5CDD505-2E9C-101B-9397-08002B2CF9AE}" pid="9" name="Forum">
    <vt:lpwstr>Distribution Workstream</vt:lpwstr>
  </property>
  <property fmtid="{D5CDD505-2E9C-101B-9397-08002B2CF9AE}" pid="10" name="Industry Arrangments">
    <vt:lpwstr/>
  </property>
  <property fmtid="{D5CDD505-2E9C-101B-9397-08002B2CF9AE}" pid="11" name="Keywords0">
    <vt:lpwstr>July 07 UK and Distribution slide pack</vt:lpwstr>
  </property>
  <property fmtid="{D5CDD505-2E9C-101B-9397-08002B2CF9AE}" pid="12" name="Month">
    <vt:lpwstr>July</vt:lpwstr>
  </property>
  <property fmtid="{D5CDD505-2E9C-101B-9397-08002B2CF9AE}" pid="13" name="Primary author">
    <vt:lpwstr/>
  </property>
  <property fmtid="{D5CDD505-2E9C-101B-9397-08002B2CF9AE}" pid="14" name="Primary author email">
    <vt:lpwstr/>
  </property>
  <property fmtid="{D5CDD505-2E9C-101B-9397-08002B2CF9AE}" pid="15" name="PrimaryAuthor">
    <vt:lpwstr>julie.roberts</vt:lpwstr>
  </property>
  <property fmtid="{D5CDD505-2E9C-101B-9397-08002B2CF9AE}" pid="16" name="PrimaryAuthorEmail">
    <vt:lpwstr>julie.roberts3@uk.ngrid.com</vt:lpwstr>
  </property>
  <property fmtid="{D5CDD505-2E9C-101B-9397-08002B2CF9AE}" pid="17" name="Security Classification">
    <vt:lpwstr>National Grid Confidential</vt:lpwstr>
  </property>
  <property fmtid="{D5CDD505-2E9C-101B-9397-08002B2CF9AE}" pid="18" name="SecurityClassification">
    <vt:lpwstr>Restricted to National Grid</vt:lpwstr>
  </property>
  <property fmtid="{D5CDD505-2E9C-101B-9397-08002B2CF9AE}" pid="19" name="Source">
    <vt:lpwstr>UKD</vt:lpwstr>
  </property>
  <property fmtid="{D5CDD505-2E9C-101B-9397-08002B2CF9AE}" pid="20" name="Status">
    <vt:lpwstr>Final/Approved</vt:lpwstr>
  </property>
  <property fmtid="{D5CDD505-2E9C-101B-9397-08002B2CF9AE}" pid="21" name="Subject0">
    <vt:lpwstr>July 07 UK and Distribution slide pack</vt:lpwstr>
  </property>
  <property fmtid="{D5CDD505-2E9C-101B-9397-08002B2CF9AE}" pid="22" name="Weblinks and photos">
    <vt:lpwstr>, </vt:lpwstr>
  </property>
  <property fmtid="{D5CDD505-2E9C-101B-9397-08002B2CF9AE}" pid="23" name="_NewReviewCycle">
    <vt:lpwstr/>
  </property>
</Properties>
</file>