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utiger SBIN Rm v.1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3688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87d"/>
                </a:solidFill>
                <a:latin typeface="GazdeFranceMedium"/>
              </a:rPr>
              <a:t>Click to move the slide</a:t>
            </a:r>
            <a:endParaRPr b="1" lang="en-US" sz="2400" spc="-1" strike="noStrike">
              <a:solidFill>
                <a:srgbClr val="71787d"/>
              </a:solidFill>
              <a:latin typeface="GazdeFrance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SBIN Rm v.1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Frutiger SBIN Rm v.1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B40B-76C0-4233-B2CF-5C3BB315AC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B05C-704F-4A98-8F2A-52B86E5609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3688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utiger SBIN Rm v.1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3B44-4073-4D7F-8FF9-6308749351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3688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utiger SBIN Rm v.1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DEA1-2A23-4C55-A694-766F5AA4F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1787d"/>
              </a:solidFill>
              <a:latin typeface="GazdeFrance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160" y="3759840"/>
            <a:ext cx="746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573A-4D68-4B86-82AC-9CC434B1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1787d"/>
              </a:solidFill>
              <a:latin typeface="GazdeFrance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643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59600" y="1371600"/>
            <a:ext cx="3643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160" y="3759840"/>
            <a:ext cx="3643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59600" y="3759840"/>
            <a:ext cx="3643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54F4-8C55-4C27-B88D-67F6B196A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1787d"/>
              </a:solidFill>
              <a:latin typeface="GazdeFrance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2404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58200" y="1371600"/>
            <a:ext cx="2404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83240" y="1371600"/>
            <a:ext cx="2404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160" y="3759840"/>
            <a:ext cx="2404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58200" y="3759840"/>
            <a:ext cx="2404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83240" y="3759840"/>
            <a:ext cx="2404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E7C7-7B3D-483B-83E1-7B7F898AA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404C-BCDB-48ED-8D06-10EE53DCC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1787d"/>
              </a:solidFill>
              <a:latin typeface="GazdeFrance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137160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1787d"/>
              </a:solidFill>
              <a:latin typeface="GazdeFrance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3E34-C974-43D1-B9E7-CEC3A961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1787d"/>
              </a:solidFill>
              <a:latin typeface="GazdeFrance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635D-DC9D-4155-A432-5251CCB0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1787d"/>
              </a:solidFill>
              <a:latin typeface="GazdeFrance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643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59600" y="1371600"/>
            <a:ext cx="3643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07DE-B52B-4CD8-86C2-726804CA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1787d"/>
              </a:solidFill>
              <a:latin typeface="GazdeFrance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AB78-552D-4DFB-B9BF-051E70B1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3160" y="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71787d"/>
              </a:solidFill>
              <a:latin typeface="GazdeFrance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4830-9D4B-4729-B1F3-57B83501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1787d"/>
              </a:solidFill>
              <a:latin typeface="GazdeFrance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643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359600" y="1371600"/>
            <a:ext cx="3643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3759840"/>
            <a:ext cx="3643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8F55-9DCE-46C3-A5BE-F9CB26D7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1787d"/>
              </a:solidFill>
              <a:latin typeface="GazdeFrance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160" y="137160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1787d"/>
              </a:solidFill>
              <a:latin typeface="GazdeFrance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6919-CF6B-48C4-BDBE-2D77443E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1787d"/>
              </a:solidFill>
              <a:latin typeface="GazdeFrance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643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59600" y="1371600"/>
            <a:ext cx="3643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359600" y="3759840"/>
            <a:ext cx="3643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1984-98C5-4494-AAD8-FE4D0CD7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1787d"/>
              </a:solidFill>
              <a:latin typeface="GazdeFrance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643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59600" y="1371600"/>
            <a:ext cx="3643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3759840"/>
            <a:ext cx="746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14EB-8CEE-4976-8D5C-81A9BA8F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1787d"/>
              </a:solidFill>
              <a:latin typeface="GazdeFrance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3759840"/>
            <a:ext cx="746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8DAA-8518-4A5B-B779-735D4157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1787d"/>
              </a:solidFill>
              <a:latin typeface="GazdeFrance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643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59600" y="1371600"/>
            <a:ext cx="3643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3759840"/>
            <a:ext cx="3643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359600" y="3759840"/>
            <a:ext cx="3643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D15D-9C7E-4808-8A56-BA8918DB0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1787d"/>
              </a:solidFill>
              <a:latin typeface="GazdeFrance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2404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58200" y="1371600"/>
            <a:ext cx="2404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583240" y="1371600"/>
            <a:ext cx="2404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3759840"/>
            <a:ext cx="2404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58200" y="3759840"/>
            <a:ext cx="2404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583240" y="3759840"/>
            <a:ext cx="2404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4133-82FE-4837-A11F-FAAD5078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1787d"/>
              </a:solidFill>
              <a:latin typeface="GazdeFrance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0594-2681-4479-8EC7-1A4C11D1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1787d"/>
              </a:solidFill>
              <a:latin typeface="GazdeFrance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643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59600" y="1371600"/>
            <a:ext cx="3643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A614-29F3-4617-B98A-6BBC6106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1787d"/>
              </a:solidFill>
              <a:latin typeface="GazdeFrance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6217-1F07-48EA-B659-65F38137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160" y="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71787d"/>
              </a:solidFill>
              <a:latin typeface="GazdeFrance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C5CB-E524-4276-8CF3-EC731F80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1787d"/>
              </a:solidFill>
              <a:latin typeface="GazdeFrance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643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59600" y="1371600"/>
            <a:ext cx="3643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160" y="3759840"/>
            <a:ext cx="3643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4480-845C-47E8-95D3-B6684C1D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1787d"/>
              </a:solidFill>
              <a:latin typeface="GazdeFrance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643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59600" y="1371600"/>
            <a:ext cx="3643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59600" y="3759840"/>
            <a:ext cx="3643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8BC3-9FFE-4D00-BE66-04BCC43F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1787d"/>
              </a:solidFill>
              <a:latin typeface="GazdeFrance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643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59600" y="1371600"/>
            <a:ext cx="3643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160" y="3759840"/>
            <a:ext cx="746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6C02-8540-4100-B54B-72D09476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5716440"/>
            <a:ext cx="9144000" cy="11415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104" t="0" r="0" b="0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1787d"/>
                </a:solidFill>
                <a:latin typeface="GazdeFranceMedium"/>
              </a:rPr>
              <a:t>Click to edit the title text format</a:t>
            </a:r>
            <a:endParaRPr b="0" lang="en-US" sz="2400" spc="-1" strike="noStrike">
              <a:solidFill>
                <a:srgbClr val="71787d"/>
              </a:solidFill>
              <a:latin typeface="GazdeFrance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3160" y="137160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7960" indent="-237960"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787d"/>
                </a:solidFill>
                <a:latin typeface="Frutiger SBIN Rm v.1"/>
              </a:rPr>
              <a:t>Click to edit the outline text format</a:t>
            </a: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  <a:p>
            <a:pPr lvl="1" marL="485640" indent="-237960">
              <a:spcBef>
                <a:spcPts val="12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787d"/>
                </a:solidFill>
                <a:latin typeface="Frutiger SBIN Rm v.1"/>
              </a:rPr>
              <a:t>Second Outline Level</a:t>
            </a: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  <a:p>
            <a:pPr lvl="2" marL="1181160" indent="-228600">
              <a:spcBef>
                <a:spcPts val="1250"/>
              </a:spcBef>
              <a:buClr>
                <a:srgbClr val="000000"/>
              </a:buClr>
              <a:buFont typeface="Frutiger SBIN Rm v.1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787d"/>
                </a:solidFill>
                <a:latin typeface="Frutiger SBIN Rm v.1"/>
              </a:rPr>
              <a:t>Third Outline Level</a:t>
            </a: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  <a:p>
            <a:pPr lvl="3" marL="1600200" indent="-228600">
              <a:spcBef>
                <a:spcPts val="1250"/>
              </a:spcBef>
              <a:buClr>
                <a:srgbClr val="000000"/>
              </a:buClr>
              <a:buFont typeface="Frutiger SBIN Rm v.1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787d"/>
                </a:solidFill>
                <a:latin typeface="Frutiger SBIN Rm v.1"/>
              </a:rPr>
              <a:t>Fourth Outline Level</a:t>
            </a: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Font typeface="Frutiger SBIN Rm v.1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787d"/>
                </a:solidFill>
                <a:latin typeface="Frutiger SBIN Rm v.1"/>
              </a:rPr>
              <a:t>Fifth Outline Level</a:t>
            </a: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Font typeface="Frutiger SBIN Rm v.1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787d"/>
                </a:solidFill>
                <a:latin typeface="Frutiger SBIN Rm v.1"/>
              </a:rPr>
              <a:t>Sixth Outline Level</a:t>
            </a: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Font typeface="Frutiger SBIN Rm v.1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787d"/>
                </a:solidFill>
                <a:latin typeface="Frutiger SBIN Rm v.1"/>
              </a:rPr>
              <a:t>Seventh Outline Level</a:t>
            </a: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9492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3619440" y="639108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9865-4D5F-49C7-B4FD-D4EAB3962A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19120" y="2771280"/>
            <a:ext cx="50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787d"/>
                </a:solidFill>
                <a:latin typeface="GazdeFranceMedium"/>
              </a:rPr>
              <a:t>Click to edit the title text format</a:t>
            </a:r>
            <a:endParaRPr b="1" lang="en-US" sz="2400" spc="-1" strike="noStrike">
              <a:solidFill>
                <a:srgbClr val="71787d"/>
              </a:solidFill>
              <a:latin typeface="GazdeFrance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4BF3-3179-4B43-A79E-1219CBFDB2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1787d"/>
                </a:solidFill>
                <a:latin typeface="GazdeFranceMedium"/>
              </a:rPr>
              <a:t>Click to edit the outline text format</a:t>
            </a:r>
            <a:endParaRPr b="0" lang="en-US" sz="1800" spc="-1" strike="noStrike">
              <a:solidFill>
                <a:srgbClr val="71787d"/>
              </a:solidFill>
              <a:latin typeface="GazdeFranceMedium"/>
            </a:endParaRPr>
          </a:p>
          <a:p>
            <a:pPr lvl="1" marL="24768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1787d"/>
                </a:solidFill>
                <a:latin typeface="Frutiger SBIN Rm v.1"/>
              </a:rPr>
              <a:t>Second Outline Level</a:t>
            </a:r>
            <a:endParaRPr b="0" lang="en-US" sz="1600" spc="-1" strike="noStrike">
              <a:solidFill>
                <a:srgbClr val="71787d"/>
              </a:solidFill>
              <a:latin typeface="Frutiger SBIN Rm v.1"/>
            </a:endParaRPr>
          </a:p>
          <a:p>
            <a:pPr lvl="2" marL="914400" indent="38160" algn="ctr">
              <a:spcBef>
                <a:spcPts val="451"/>
              </a:spcBef>
              <a:buClr>
                <a:srgbClr val="000000"/>
              </a:buClr>
              <a:buFont typeface="Frutiger SBIN Rm v.1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SBIN Rm v.1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Frutiger SBIN Rm v.1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Frutiger SBIN Rm v.1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SBIN Rm v.1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utiger SBIN Rm v.1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Frutiger SBIN Rm v.1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SBIN Rm v.1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utiger SBIN Rm v.1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Frutiger SBIN Rm v.1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SBIN Rm v.1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utiger SBIN Rm v.1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Frutiger SBIN Rm v.1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SBIN Rm v.1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utiger SBIN Rm v.1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780000" y="3357720"/>
            <a:ext cx="7075440" cy="12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1787d"/>
                </a:solidFill>
                <a:latin typeface="GazdeFranceMedium"/>
              </a:rPr>
              <a:t>Re-Alignment of Failure to Interrupt Charges</a:t>
            </a:r>
            <a:endParaRPr b="1" lang="en-US" sz="1800" spc="-1" strike="noStrike">
              <a:solidFill>
                <a:srgbClr val="71787d"/>
              </a:solidFill>
              <a:latin typeface="GazdeFrance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1787d"/>
                </a:solidFill>
                <a:latin typeface="GazdeFranceMedium"/>
              </a:rPr>
              <a:t>Background</a:t>
            </a:r>
            <a:r>
              <a:rPr b="0" lang="en-US" sz="2400" spc="-1" strike="noStrike">
                <a:solidFill>
                  <a:srgbClr val="71787d"/>
                </a:solidFill>
                <a:latin typeface="GazdeFranceMedium"/>
              </a:rPr>
              <a:t>	</a:t>
            </a:r>
            <a:endParaRPr b="0" lang="en-US" sz="2400" spc="-1" strike="noStrike">
              <a:solidFill>
                <a:srgbClr val="71787d"/>
              </a:solidFill>
              <a:latin typeface="GazdeFrance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7960" indent="-237960"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1787d"/>
                </a:solidFill>
                <a:latin typeface="Frutiger SBIN Rm v.1"/>
              </a:rPr>
              <a:t>Proposal raised to address an unintended consequence of DNPC03 (95:5 Capacity/Commodity Split and Interruptible discounts)</a:t>
            </a: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  <a:p>
            <a:pPr marL="237960" indent="-237960"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1787d"/>
                </a:solidFill>
                <a:latin typeface="Frutiger SBIN Rm v.1"/>
              </a:rPr>
              <a:t>Resulting in FTI charges almost doubling</a:t>
            </a: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  <a:p>
            <a:pPr marL="237960" indent="-237960"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1787d"/>
                </a:solidFill>
                <a:latin typeface="Frutiger SBIN Rm v.1"/>
              </a:rPr>
              <a:t>Mod seeks to maintain current level of contractual risk and maintain current incentive</a:t>
            </a: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  <a:p>
            <a:pPr marL="237960" indent="-237960"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1787d"/>
                </a:solidFill>
                <a:latin typeface="Frutiger SBIN Rm v.1"/>
              </a:rPr>
              <a:t>UNC concept to penalise in line with avoided charges</a:t>
            </a: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  <a:p>
            <a:pPr marL="237960" indent="-237960"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1787d"/>
                </a:solidFill>
                <a:latin typeface="Frutiger SBIN Rm v.1"/>
              </a:rPr>
              <a:t>No change to arrangements for NTS Interruptibles</a:t>
            </a: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  <a:p>
            <a:pPr marL="23796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C95A-76DE-4A71-9F14-77087E8D88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1787d"/>
                </a:solidFill>
                <a:latin typeface="GazdeFranceMedium"/>
              </a:rPr>
              <a:t>Issues and Views</a:t>
            </a:r>
            <a:endParaRPr b="0" lang="en-US" sz="2400" spc="-1" strike="noStrike">
              <a:solidFill>
                <a:srgbClr val="71787d"/>
              </a:solidFill>
              <a:latin typeface="GazdeFrance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7960" indent="-237960"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1787d"/>
                </a:solidFill>
                <a:latin typeface="Frutiger SBIN Rm v.1"/>
              </a:rPr>
              <a:t>Rather than 2 x the Interruptible LDZ charge should the charge be 2 x the difference between Firm charge and Interruptible charge ?</a:t>
            </a: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  <a:p>
            <a:pPr lvl="1" marL="485640" indent="-237960">
              <a:spcBef>
                <a:spcPts val="10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1787d"/>
                </a:solidFill>
                <a:latin typeface="Frutiger SBIN Rm v.1"/>
              </a:rPr>
              <a:t>To retain the concept of Avoided charges</a:t>
            </a:r>
            <a:endParaRPr b="0" lang="en-US" sz="1600" spc="-1" strike="noStrike">
              <a:solidFill>
                <a:srgbClr val="71787d"/>
              </a:solidFill>
              <a:latin typeface="Frutiger SBIN Rm v.1"/>
            </a:endParaRPr>
          </a:p>
          <a:p>
            <a:pPr lvl="1" marL="485640" indent="-237960">
              <a:spcBef>
                <a:spcPts val="10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1787d"/>
                </a:solidFill>
                <a:latin typeface="Frutiger SBIN Rm v.1"/>
              </a:rPr>
              <a:t>Minor change but adds complexity for the customer</a:t>
            </a:r>
            <a:endParaRPr b="0" lang="en-US" sz="1600" spc="-1" strike="noStrike">
              <a:solidFill>
                <a:srgbClr val="71787d"/>
              </a:solidFill>
              <a:latin typeface="Frutiger SBIN Rm v.1"/>
            </a:endParaRPr>
          </a:p>
          <a:p>
            <a:pPr marL="237960" indent="-237960"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1787d"/>
                </a:solidFill>
                <a:latin typeface="Frutiger SBIN Rm v.1"/>
              </a:rPr>
              <a:t>Consider mod 90 implementation?</a:t>
            </a: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  <a:p>
            <a:pPr lvl="1" marL="485640" indent="-237960">
              <a:spcBef>
                <a:spcPts val="100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1787d"/>
                </a:solidFill>
                <a:latin typeface="Frutiger SBIN Rm v.1"/>
              </a:rPr>
              <a:t>Higher of 2 x Annual Firm charges or 2 x exercised contract price</a:t>
            </a:r>
            <a:endParaRPr b="0" lang="en-US" sz="1600" spc="-1" strike="noStrike">
              <a:solidFill>
                <a:srgbClr val="71787d"/>
              </a:solidFill>
              <a:latin typeface="Frutiger SBIN Rm v.1"/>
            </a:endParaRPr>
          </a:p>
          <a:p>
            <a:pPr marL="23796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  <a:p>
            <a:pPr lvl="1" marL="4856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1787d"/>
              </a:solidFill>
              <a:latin typeface="Frutiger SBIN Rm v.1"/>
            </a:endParaRPr>
          </a:p>
          <a:p>
            <a:pPr marL="23796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1787d"/>
              </a:solidFill>
              <a:latin typeface="Frutiger SBIN Rm v.1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39D3-3858-4DF5-81BE-83B90F180E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1:27:42Z</dcterms:created>
  <dc:creator>kate.mcnulty</dc:creator>
  <dc:description/>
  <dc:language>en-US</dc:language>
  <cp:lastModifiedBy>phil.broom</cp:lastModifiedBy>
  <dcterms:modified xsi:type="dcterms:W3CDTF">2008-02-26T12:40:16Z</dcterms:modified>
  <cp:revision>97</cp:revision>
  <dc:subject/>
  <dc:title>PowerPoint Presentation</dc:title>
</cp:coreProperties>
</file>