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00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292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908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00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292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79080" y="0"/>
            <a:ext cx="8567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00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2920" y="119232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908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00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2920" y="3545640"/>
            <a:ext cx="2758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9080" y="0"/>
            <a:ext cx="8567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69280" y="354564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90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9280" y="1192320"/>
            <a:ext cx="41806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9080" y="3545640"/>
            <a:ext cx="85676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275"/>
          <a:stretch/>
        </p:blipFill>
        <p:spPr>
          <a:xfrm>
            <a:off x="6980400" y="5846760"/>
            <a:ext cx="2266920" cy="824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676920"/>
            <a:ext cx="9144000" cy="179640"/>
          </a:xfrm>
          <a:prstGeom prst="rect">
            <a:avLst/>
          </a:prstGeom>
          <a:solidFill>
            <a:srgbClr val="7fa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9440" y="106668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79080" y="1192320"/>
            <a:ext cx="856764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529b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60360">
              <a:spcBef>
                <a:spcPts val="700"/>
              </a:spcBef>
              <a:buClr>
                <a:srgbClr val="00529b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358920">
              <a:spcBef>
                <a:spcPts val="700"/>
              </a:spcBef>
              <a:buClr>
                <a:srgbClr val="00529b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96920" indent="-380880">
              <a:spcBef>
                <a:spcPts val="700"/>
              </a:spcBef>
              <a:buClr>
                <a:srgbClr val="00529b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57440" indent="-380880">
              <a:spcBef>
                <a:spcPts val="700"/>
              </a:spcBef>
              <a:buClr>
                <a:srgbClr val="00529b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5744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5744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79280" cy="6713640"/>
          </a:xfrm>
          <a:prstGeom prst="rect">
            <a:avLst/>
          </a:prstGeom>
          <a:solidFill>
            <a:srgbClr val="7fa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9080" y="838080"/>
            <a:ext cx="8567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46920" y="5734080"/>
            <a:ext cx="2305080" cy="95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9440" y="2205000"/>
            <a:ext cx="8567640" cy="0"/>
          </a:xfrm>
          <a:prstGeom prst="line">
            <a:avLst/>
          </a:prstGeom>
          <a:ln w="38160">
            <a:solidFill>
              <a:srgbClr val="fdd4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76920"/>
            <a:ext cx="9144000" cy="179640"/>
          </a:xfrm>
          <a:prstGeom prst="rect">
            <a:avLst/>
          </a:prstGeom>
          <a:solidFill>
            <a:srgbClr val="7fa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79280" cy="6713640"/>
          </a:xfrm>
          <a:prstGeom prst="rect">
            <a:avLst/>
          </a:prstGeom>
          <a:solidFill>
            <a:srgbClr val="7fa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985080" y="5843520"/>
            <a:ext cx="2266920" cy="938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63440" algn="ctr">
              <a:spcBef>
                <a:spcPts val="601"/>
              </a:spcBef>
              <a:buClr>
                <a:srgbClr val="00529b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44440" algn="ctr">
              <a:spcBef>
                <a:spcPts val="499"/>
              </a:spcBef>
              <a:buClr>
                <a:srgbClr val="00529b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47760" algn="ctr">
              <a:spcBef>
                <a:spcPts val="499"/>
              </a:spcBef>
              <a:buClr>
                <a:srgbClr val="00529b"/>
              </a:buClr>
              <a:buSzPct val="8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477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477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9080" y="838080"/>
            <a:ext cx="8567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ification Proposal 0220 – “Invoicing Arrangements for Late Payments”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9080" y="2529000"/>
            <a:ext cx="8567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Grid (Distribution) 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 Wa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– Application / Set O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960" y="1127160"/>
            <a:ext cx="846792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Assumption that the Proposal applies to all Interest (due to Transporters and User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Set Off provisions appear to only apply to credits to the Us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Although Transporters have existing set off rights in the UNC (S3.8) this requires the User’s cons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Set Off in the context of this proposal appears to not require the consent of the Transporter (beyond a pre-notificatio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This ‘unconditional’ set off right should apply in instances of both credit and debit inter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Set Off terms propose that this is applied in the “</a:t>
            </a: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ext scheduled payment run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This may require further clarification (eg: specification of the invoice types that qualify as the “</a:t>
            </a: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ext scheduled payment run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”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The practical application of the Set Off in respect of User Credit interest would require the User to establish the interest value due to 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Further provision may be necessary for Transporter to query the credit interest value as determined by the User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– Deadline for Pay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7360" y="1103400"/>
            <a:ext cx="849168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G(D) preference is to issue interest invoices mont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inimises processing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inimises validation bu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oposal may not facilitate this for 31 day months, for 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terest invoice is issued on 20th J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terest that is accrued (i.e. date of late payment) on 20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Jan unlikely to be included on the above interest in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der the proposed terms it would become due for payment on 19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Feb (the day prior to when the next monthly Interest invoice is schedule for issue on 20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lution is to slightly extend the payment period (to at least 31 days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10:41:32Z</dcterms:created>
  <dc:creator>Lindsay-Smith</dc:creator>
  <dc:description/>
  <dc:language>en-US</dc:language>
  <cp:lastModifiedBy>phil.lucas</cp:lastModifiedBy>
  <cp:lastPrinted>2001-07-05T10:26:43Z</cp:lastPrinted>
  <dcterms:modified xsi:type="dcterms:W3CDTF">2008-08-27T14:50:42Z</dcterms:modified>
  <cp:revision>33</cp:revision>
  <dc:subject>Governance arrangements for the management of CSEPs</dc:subject>
  <dc:title>CSEP Admin Options Exter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:">
    <vt:lpwstr/>
  </property>
  <property fmtid="{D5CDD505-2E9C-101B-9397-08002B2CF9AE}" pid="3" name="::">
    <vt:lpwstr/>
  </property>
  <property fmtid="{D5CDD505-2E9C-101B-9397-08002B2CF9AE}" pid="4" name="Applicable Duration">
    <vt:lpwstr/>
  </property>
  <property fmtid="{D5CDD505-2E9C-101B-9397-08002B2CF9AE}" pid="5" name="ApprovedBy">
    <vt:lpwstr/>
  </property>
  <property fmtid="{D5CDD505-2E9C-101B-9397-08002B2CF9AE}" pid="6" name="Contarct/Licence">
    <vt:lpwstr>Uniform Network Code</vt:lpwstr>
  </property>
  <property fmtid="{D5CDD505-2E9C-101B-9397-08002B2CF9AE}" pid="7" name="ContentType">
    <vt:lpwstr>External Document</vt:lpwstr>
  </property>
  <property fmtid="{D5CDD505-2E9C-101B-9397-08002B2CF9AE}" pid="8" name="ContentTypeId">
    <vt:lpwstr>0x010100C13D9FA44E79D3429FC7D3479220023800BB309FE6683AD041ADD3A223ED7A1CB4</vt:lpwstr>
  </property>
  <property fmtid="{D5CDD505-2E9C-101B-9397-08002B2CF9AE}" pid="9" name="Description0">
    <vt:lpwstr/>
  </property>
  <property fmtid="{D5CDD505-2E9C-101B-9397-08002B2CF9AE}" pid="10" name="Document Type">
    <vt:lpwstr>Presentation</vt:lpwstr>
  </property>
  <property fmtid="{D5CDD505-2E9C-101B-9397-08002B2CF9AE}" pid="11" name="Forum">
    <vt:lpwstr>Distribution Workstream</vt:lpwstr>
  </property>
  <property fmtid="{D5CDD505-2E9C-101B-9397-08002B2CF9AE}" pid="12" name="Industry Arrangments">
    <vt:lpwstr/>
  </property>
  <property fmtid="{D5CDD505-2E9C-101B-9397-08002B2CF9AE}" pid="13" name="KeyWords0">
    <vt:lpwstr/>
  </property>
  <property fmtid="{D5CDD505-2E9C-101B-9397-08002B2CF9AE}" pid="14" name="Organisation">
    <vt:lpwstr>Gas DNs</vt:lpwstr>
  </property>
  <property fmtid="{D5CDD505-2E9C-101B-9397-08002B2CF9AE}" pid="15" name="PrimaryAuthor">
    <vt:lpwstr>Phil Lucas</vt:lpwstr>
  </property>
  <property fmtid="{D5CDD505-2E9C-101B-9397-08002B2CF9AE}" pid="16" name="PrimaryAuthorEmail">
    <vt:lpwstr>phil.lucas@uk.ngrid.com</vt:lpwstr>
  </property>
  <property fmtid="{D5CDD505-2E9C-101B-9397-08002B2CF9AE}" pid="17" name="Ref No">
    <vt:lpwstr/>
  </property>
  <property fmtid="{D5CDD505-2E9C-101B-9397-08002B2CF9AE}" pid="18" name="SecurityClassification">
    <vt:lpwstr>Restricted to National Grid</vt:lpwstr>
  </property>
  <property fmtid="{D5CDD505-2E9C-101B-9397-08002B2CF9AE}" pid="19" name="Source">
    <vt:lpwstr>UKD</vt:lpwstr>
  </property>
  <property fmtid="{D5CDD505-2E9C-101B-9397-08002B2CF9AE}" pid="20" name="Status">
    <vt:lpwstr>Work In Progress</vt:lpwstr>
  </property>
  <property fmtid="{D5CDD505-2E9C-101B-9397-08002B2CF9AE}" pid="21" name="Subject0">
    <vt:lpwstr/>
  </property>
  <property fmtid="{D5CDD505-2E9C-101B-9397-08002B2CF9AE}" pid="22" name="_Status">
    <vt:lpwstr>Published</vt:lpwstr>
  </property>
</Properties>
</file>