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43FE-2E0F-4BFA-9FFF-907F0B37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7666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A7EA-5C4D-46DE-A47A-15ACE801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21F6-73DD-4A23-92F8-C44A3579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BEC8-FE42-4B8E-AE90-71AF0797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E6C5-6D01-4525-9B73-57A0E50F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835D-1794-4BEB-95C5-AD95175F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4F79-4F97-4B0F-B894-F1105D7F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27FD-48B5-4AD5-9E32-20C81E1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E13B-E0D6-42AF-8CE8-4E709330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5000" y="66240"/>
            <a:ext cx="8688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5807-5BB7-4361-B48F-6C487E0F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9A51-F018-4EE1-AB89-6177EF76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E448-8950-4279-BA6E-72FD4CB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8037-4461-4984-A5CA-03F0C802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7DBA-B25D-4B47-922E-6A93FAEC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37666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4A79-FD22-4B8E-AD6B-7D00EAE8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84B8-FD73-4CF1-AFC4-6F39CBBB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69FF-9671-467B-8280-AE3F9C58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C68D-AC6D-469F-8B17-2CF745BF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EDCD-33DC-4926-BFA7-A8B2040B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4B26-1A6E-4275-BAA9-8929CD8F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5000" y="66240"/>
            <a:ext cx="8688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C716-7244-473D-8C1E-619C4FC9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771A-1C41-4697-8E36-1E0B816E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C30F-E96F-4743-9071-8381331C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E6ED-AD0B-4970-9197-28EBC9D0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E038-165C-4D22-BA28-FA713062A77F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65360" y="6386400"/>
            <a:ext cx="420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2480" y="6632640"/>
            <a:ext cx="762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96920"/>
            <a:ext cx="9144000" cy="31680"/>
          </a:xfrm>
          <a:prstGeom prst="rect">
            <a:avLst/>
          </a:prstGeom>
          <a:gradFill rotWithShape="0">
            <a:gsLst>
              <a:gs pos="0">
                <a:srgbClr val="71a6ce"/>
              </a:gs>
              <a:gs pos="100000">
                <a:srgbClr val="0062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19024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2480" y="6624720"/>
            <a:ext cx="762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565360" y="6386400"/>
            <a:ext cx="420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286400" y="6572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2E60-6D39-4816-A6A1-9929641F6E1A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0" y="2827440"/>
            <a:ext cx="914400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icing Shi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roven Thefts of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ugust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0" y="1261800"/>
            <a:ext cx="9144000" cy="106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oserve Theft of Gas Team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5360" y="66600"/>
            <a:ext cx="8688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ft of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3536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serve Theft of Gas Team has completed a comprehensive review of its processes. This included the determination of a true theft of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icing was also part of this review. The following high level procedure is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serve Theft of Gas Team could collate the information provided by shippers for proven thefts of gas, and provide this information to xoserve Invoice Adjustments Team on a monthly ba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serve Invoice Adjustments Team would then produce and issue Ad hoc invoices to Shippers relating to the stolen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360" y="66600"/>
            <a:ext cx="8688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ft of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41480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oserve would not intend to invoice for the backlog of proven thefts that have accumulated prior the the process implementation d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oserve would require some time to implement process and send out relevant notifications to th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step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08:43:20Z</dcterms:created>
  <dc:creator>Max Pemberton</dc:creator>
  <dc:description/>
  <dc:language>en-US</dc:language>
  <cp:lastModifiedBy>john.bradley</cp:lastModifiedBy>
  <dcterms:modified xsi:type="dcterms:W3CDTF">2008-08-27T13:40:57Z</dcterms:modified>
  <cp:revision>82</cp:revision>
  <dc:subject/>
  <dc:title>Title Slide</dc:title>
</cp:coreProperties>
</file>