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57a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355680" indent="-1764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3" marL="1077840" indent="-174600">
              <a:spcBef>
                <a:spcPts val="751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4" marL="1674720" indent="-228600">
              <a:spcBef>
                <a:spcPts val="75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5" marL="167472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6" marL="167472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UNC PROPOSAL 0121: The Provision of Ex-Post Demand Information for all NTS Offtak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tefan Leedham 2</a:t>
            </a:r>
            <a:r>
              <a:rPr b="0" lang="en-GB" sz="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 November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8D98A2BC-0BED-4DA5-A142-478BED2D6AE2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5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11778" t="0" r="0" b="4122"/>
          <a:stretch/>
        </p:blipFill>
        <p:spPr>
          <a:xfrm>
            <a:off x="0" y="623736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57a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6265800"/>
            <a:ext cx="6624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© Copyright EDF Energy. 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2383"/>
          <a:stretch/>
        </p:blipFill>
        <p:spPr>
          <a:xfrm>
            <a:off x="108000" y="1236600"/>
            <a:ext cx="4610160" cy="428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357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2" marL="534960" algn="ctr">
              <a:spcBef>
                <a:spcPts val="48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9357a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9357a"/>
              </a:solidFill>
              <a:latin typeface="Arial"/>
            </a:endParaRPr>
          </a:p>
          <a:p>
            <a:pPr lvl="3" marL="903240" algn="ctr">
              <a:spcBef>
                <a:spcPts val="414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357a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9357a"/>
              </a:solidFill>
              <a:latin typeface="Arial"/>
            </a:endParaRPr>
          </a:p>
          <a:p>
            <a:pPr lvl="4" marL="1433520" indent="12600" algn="ctr">
              <a:spcBef>
                <a:spcPts val="45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433520" indent="1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433520" indent="1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57a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628560" indent="-1760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996840" indent="-1886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3" marL="1351080" indent="-174600">
              <a:spcBef>
                <a:spcPts val="751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4" marL="1758960" indent="-228600">
              <a:spcBef>
                <a:spcPts val="75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5" marL="17589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6" marL="17589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89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UNC PROPOSAL 0121: The Provision of Ex-Post Demand Information for all NTS Offtak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tefan Leedham 2</a:t>
            </a:r>
            <a:r>
              <a:rPr b="0" lang="en-GB" sz="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 November 2006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E49CFCF3-D59A-428D-918E-B2CF6A152CC6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68360" y="3755520"/>
            <a:ext cx="42480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68360" y="981000"/>
            <a:ext cx="4248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0000" y="1627200"/>
            <a:ext cx="142920" cy="217440"/>
            <a:chOff x="270000" y="1627200"/>
            <a:chExt cx="142920" cy="217440"/>
          </a:xfrm>
        </p:grpSpPr>
        <p:sp>
          <p:nvSpPr>
            <p:cNvPr id="134" name=""/>
            <p:cNvSpPr/>
            <p:nvPr/>
          </p:nvSpPr>
          <p:spPr>
            <a:xfrm>
              <a:off x="270000" y="162720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640" y="169884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0000" y="1771920"/>
              <a:ext cx="7164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8360" y="2492280"/>
            <a:ext cx="4248000" cy="432000"/>
            <a:chOff x="468360" y="2492280"/>
            <a:chExt cx="4248000" cy="432000"/>
          </a:xfrm>
        </p:grpSpPr>
        <p:sp>
          <p:nvSpPr>
            <p:cNvPr id="138" name=""/>
            <p:cNvSpPr/>
            <p:nvPr/>
          </p:nvSpPr>
          <p:spPr>
            <a:xfrm>
              <a:off x="469080" y="263664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080" y="278136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080" y="292428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360" y="2492280"/>
              <a:ext cx="424692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-36360" y="-144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68360" y="3395160"/>
            <a:ext cx="42480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499"/>
              </a:spcBef>
              <a:buClr>
                <a:srgbClr val="09357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499"/>
              </a:spcBef>
              <a:buClr>
                <a:srgbClr val="09357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68000" y="981000"/>
            <a:ext cx="4319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0000" y="1627200"/>
            <a:ext cx="142920" cy="217440"/>
            <a:chOff x="270000" y="1627200"/>
            <a:chExt cx="142920" cy="217440"/>
          </a:xfrm>
        </p:grpSpPr>
        <p:sp>
          <p:nvSpPr>
            <p:cNvPr id="182" name=""/>
            <p:cNvSpPr/>
            <p:nvPr/>
          </p:nvSpPr>
          <p:spPr>
            <a:xfrm>
              <a:off x="270000" y="162720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1640" y="169884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0000" y="1771920"/>
              <a:ext cx="7164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68360" y="2492280"/>
            <a:ext cx="4248000" cy="432000"/>
            <a:chOff x="468360" y="2492280"/>
            <a:chExt cx="4248000" cy="432000"/>
          </a:xfrm>
        </p:grpSpPr>
        <p:sp>
          <p:nvSpPr>
            <p:cNvPr id="186" name=""/>
            <p:cNvSpPr/>
            <p:nvPr/>
          </p:nvSpPr>
          <p:spPr>
            <a:xfrm>
              <a:off x="469080" y="263664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9080" y="278136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9080" y="292428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60" y="2492280"/>
              <a:ext cx="424692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3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588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6000" indent="-2286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4240" indent="-228600">
              <a:spcBef>
                <a:spcPts val="751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6212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66212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66212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229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776F1868-F240-4920-A63E-3C58F7A487E3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3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90880" y="1125000"/>
            <a:ext cx="40287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0" r="0" b="42382"/>
          <a:stretch/>
        </p:blipFill>
        <p:spPr>
          <a:xfrm>
            <a:off x="277920" y="1254240"/>
            <a:ext cx="4438440" cy="4119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3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9560" indent="-2588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7440" indent="-2286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25680" indent="-2286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3356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335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335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313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BF5F0AC4-568C-4E1F-A2CC-810B2A5ACE41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2576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93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760" y="220968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Eurostile LT Bold"/>
                <a:ea typeface="ＭＳ Ｐゴシック"/>
              </a:rPr>
              <a:t>THANK Y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8300880" y="5818320"/>
            <a:ext cx="5191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9357a"/>
                </a:solidFill>
                <a:latin typeface="Arial Black"/>
              </a:rPr>
              <a:t>UNC MOD PROPOSAL 0121: The Provision of Ex-Post Demand Information for all NTS Offtakes</a:t>
            </a:r>
            <a:endParaRPr b="0" lang="en-US" sz="28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801680" y="3860640"/>
            <a:ext cx="40179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9357a"/>
                </a:solidFill>
                <a:latin typeface="Arial"/>
              </a:rPr>
              <a:t>Stefan Leedham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9357a"/>
                </a:solidFill>
                <a:latin typeface="Arial"/>
              </a:rPr>
              <a:t>Transmission Workstream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9357a"/>
                </a:solidFill>
                <a:latin typeface="Arial"/>
              </a:rPr>
              <a:t>2</a:t>
            </a:r>
            <a:r>
              <a:rPr b="1" lang="en-GB" sz="2000" spc="-1" strike="noStrike" baseline="30000">
                <a:solidFill>
                  <a:srgbClr val="09357a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09357a"/>
                </a:solidFill>
                <a:latin typeface="Arial"/>
              </a:rPr>
              <a:t> November 2006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Information currently available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Information that would be released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Exit points impacted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Timing of Publication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Interaction with Modification Proposal 0116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Other Issues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INFORMATION CURRENTLY AVAILABLE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79280" y="1052640"/>
          <a:ext cx="8713800" cy="4321080"/>
        </p:xfrm>
        <a:graphic>
          <a:graphicData uri="http://schemas.openxmlformats.org/drawingml/2006/table">
            <a:tbl>
              <a:tblPr/>
              <a:tblGrid>
                <a:gridCol w="878040"/>
                <a:gridCol w="1147680"/>
                <a:gridCol w="976320"/>
                <a:gridCol w="814320"/>
                <a:gridCol w="1236600"/>
                <a:gridCol w="1170000"/>
                <a:gridCol w="1319400"/>
                <a:gridCol w="1171440"/>
              </a:tblGrid>
              <a:tr h="67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-Ter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regate N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9357a"/>
                    </a:solidFill>
                  </a:tcPr>
                </a:tc>
              </a:tr>
              <a:tr h="96192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y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Flow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</a:tr>
              <a:tr h="3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SA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SE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</a:tr>
              <a:tr h="384480">
                <a:tc rowSpan="3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and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R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</a:tr>
              <a:tr h="43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</a:tr>
              <a:tr h="62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R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382c7"/>
                    </a:solidFill>
                  </a:tcPr>
                </a:tc>
              </a:tr>
            </a:tbl>
          </a:graphicData>
        </a:graphic>
      </p:graphicFrame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1280" y="907920"/>
            <a:ext cx="896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INFORMATION THAT WOULD BE RELEASED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Total Physical Flows for the previous gas day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Published at D+1 12.00PM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For all Exit Points from the NTS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538200" indent="-17640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Individual LDZ offtake from the NTS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1" marL="538200" indent="-17640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Individual NTS connected storage site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1" marL="538200" indent="-17640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Individual NTS connected power station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1" marL="538200" indent="-17640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Individual NTS connected interconnectors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1" marL="538200" indent="-17640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Individual NTS connected industrial load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Total Shrinkage Volumes for the NTS for the previous gas day, disaggregated into Own Use Gas and Unaccounted for Gas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Published on National Grid’s public website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EXIT POINTS IMPACTED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122 LDZ offtakes from the NTS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38 Power Stations (33 according to National Grid)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17 Industrial Sites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10 Storage sites (9 according to National Grid)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2 Interconnectors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6560" y="3716280"/>
            <a:ext cx="144720" cy="144360"/>
          </a:xfrm>
          <a:custGeom>
            <a:avLst/>
            <a:gdLst>
              <a:gd name="textAreaLeft" fmla="*/ 50760 w 144720"/>
              <a:gd name="textAreaRight" fmla="*/ 93960 w 144720"/>
              <a:gd name="textAreaTop" fmla="*/ 50760 h 144360"/>
              <a:gd name="textAreaBottom" fmla="*/ 93600 h 144360"/>
            </a:gdLst>
            <a:ahLst/>
            <a:rect l="textAreaLeft" t="textAreaTop" r="textAreaRight" b="textAreaBottom"/>
            <a:pathLst>
              <a:path w="21654" h="21600">
                <a:moveTo>
                  <a:pt x="10778" y="0"/>
                </a:moveTo>
                <a:arcTo wR="10778" hR="10778" stAng="0" swAng="5400000"/>
                <a:lnTo>
                  <a:pt x="0" y="10822"/>
                </a:lnTo>
                <a:arcTo wR="10778" hR="10778" stAng="16200000" swAng="5400000"/>
                <a:lnTo>
                  <a:pt x="10876" y="21600"/>
                </a:lnTo>
                <a:arcTo wR="10778" hR="10778" stAng="10800000" swAng="5400000"/>
                <a:lnTo>
                  <a:pt x="21654" y="10778"/>
                </a:lnTo>
                <a:arcTo wR="10778" hR="10778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TIMING OF PUBLICATION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Data to be published after the gas day at 12.00PM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Data to be updated up to D+5 as additional information becomes available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No requirement to publish data if it is not available to National Grid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6560" y="3716280"/>
            <a:ext cx="144720" cy="144360"/>
          </a:xfrm>
          <a:custGeom>
            <a:avLst/>
            <a:gdLst>
              <a:gd name="textAreaLeft" fmla="*/ 50760 w 144720"/>
              <a:gd name="textAreaRight" fmla="*/ 93960 w 144720"/>
              <a:gd name="textAreaTop" fmla="*/ 50760 h 144360"/>
              <a:gd name="textAreaBottom" fmla="*/ 93600 h 144360"/>
            </a:gdLst>
            <a:ahLst/>
            <a:rect l="textAreaLeft" t="textAreaTop" r="textAreaRight" b="textAreaBottom"/>
            <a:pathLst>
              <a:path w="21654" h="21600">
                <a:moveTo>
                  <a:pt x="10778" y="0"/>
                </a:moveTo>
                <a:arcTo wR="10778" hR="10778" stAng="0" swAng="5400000"/>
                <a:lnTo>
                  <a:pt x="0" y="10822"/>
                </a:lnTo>
                <a:arcTo wR="10778" hR="10778" stAng="16200000" swAng="5400000"/>
                <a:lnTo>
                  <a:pt x="10876" y="21600"/>
                </a:lnTo>
                <a:arcTo wR="10778" hR="10778" stAng="10800000" swAng="5400000"/>
                <a:lnTo>
                  <a:pt x="21654" y="10778"/>
                </a:lnTo>
                <a:arcTo wR="10778" hR="10778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INTERACTION WITH EXIT REFORM PROPOSAL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Mod 121 would release total physical offtake from the NTS by exit point at D+1 12.00PM stage – not flows up to 22.00.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In  Business Rules accompanying Mod 116 National Grid publish information: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484200" indent="-30492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By NTS Exit Point on volume of flat capacity allocated: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82640" indent="-2476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24 hours after long term prevailing allocation,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82640" indent="-2476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24 hours after completion of medium term auction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82640" indent="-2476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1 hour after completion of day ahead firm auction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82640" indent="-2476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1 hour after completion of day ahead interruptible auction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484200" indent="-30492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By NTS Exit zone the volume of flexibility capacity allocated.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6560" y="3716280"/>
            <a:ext cx="144720" cy="144360"/>
          </a:xfrm>
          <a:custGeom>
            <a:avLst/>
            <a:gdLst>
              <a:gd name="textAreaLeft" fmla="*/ 50760 w 144720"/>
              <a:gd name="textAreaRight" fmla="*/ 93960 w 144720"/>
              <a:gd name="textAreaTop" fmla="*/ 50760 h 144360"/>
              <a:gd name="textAreaBottom" fmla="*/ 93600 h 144360"/>
            </a:gdLst>
            <a:ahLst/>
            <a:rect l="textAreaLeft" t="textAreaTop" r="textAreaRight" b="textAreaBottom"/>
            <a:pathLst>
              <a:path w="21654" h="21600">
                <a:moveTo>
                  <a:pt x="10778" y="0"/>
                </a:moveTo>
                <a:arcTo wR="10778" hR="10778" stAng="0" swAng="5400000"/>
                <a:lnTo>
                  <a:pt x="0" y="10822"/>
                </a:lnTo>
                <a:arcTo wR="10778" hR="10778" stAng="16200000" swAng="5400000"/>
                <a:lnTo>
                  <a:pt x="10876" y="21600"/>
                </a:lnTo>
                <a:arcTo wR="10778" hR="10778" stAng="10800000" swAng="5400000"/>
                <a:lnTo>
                  <a:pt x="21654" y="10778"/>
                </a:lnTo>
                <a:arcTo wR="10778" hR="10778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OTHER ISSUES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Data ownership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484200" indent="-30492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TPD Section V 5.8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1" marL="484200" indent="-30492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TPD Section M 4.1.2 (b)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Requirements to make information available to National Grid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484200" indent="-30492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357a"/>
                </a:solidFill>
                <a:latin typeface="Arial"/>
              </a:rPr>
              <a:t>TPD Section M 4.2.1, 4.5 &amp; 5.2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Commercially Confidential Information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Need for aggregation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6560" y="3716280"/>
            <a:ext cx="144720" cy="144360"/>
          </a:xfrm>
          <a:custGeom>
            <a:avLst/>
            <a:gdLst>
              <a:gd name="textAreaLeft" fmla="*/ 50760 w 144720"/>
              <a:gd name="textAreaRight" fmla="*/ 93960 w 144720"/>
              <a:gd name="textAreaTop" fmla="*/ 50760 h 144360"/>
              <a:gd name="textAreaBottom" fmla="*/ 93600 h 144360"/>
            </a:gdLst>
            <a:ahLst/>
            <a:rect l="textAreaLeft" t="textAreaTop" r="textAreaRight" b="textAreaBottom"/>
            <a:pathLst>
              <a:path w="21654" h="21600">
                <a:moveTo>
                  <a:pt x="10778" y="0"/>
                </a:moveTo>
                <a:arcTo wR="10778" hR="10778" stAng="0" swAng="5400000"/>
                <a:lnTo>
                  <a:pt x="0" y="10822"/>
                </a:lnTo>
                <a:arcTo wR="10778" hR="10778" stAng="16200000" swAng="5400000"/>
                <a:lnTo>
                  <a:pt x="10876" y="21600"/>
                </a:lnTo>
                <a:arcTo wR="10778" hR="10778" stAng="10800000" swAng="5400000"/>
                <a:lnTo>
                  <a:pt x="21654" y="10778"/>
                </a:lnTo>
                <a:arcTo wR="10778" hR="10778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2448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4:49:27Z</dcterms:created>
  <dc:creator> </dc:creator>
  <dc:description/>
  <dc:language>en-US</dc:language>
  <cp:lastModifiedBy>leedh6s</cp:lastModifiedBy>
  <dcterms:modified xsi:type="dcterms:W3CDTF">2006-10-30T16:16:11Z</dcterms:modified>
  <cp:revision>120</cp:revision>
  <dc:subject/>
  <dc:title>Slide 1</dc:title>
</cp:coreProperties>
</file>