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E17-BDCF-4184-BD7D-3885DE85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9E8-ED68-414B-BD29-0523C1F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E5D-0ED9-4629-ABBA-10B7EF78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2C4-B1AB-47B9-88EF-944E5C67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68F-4BDD-448B-841B-BD40CDB3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A74-CE44-402F-BEFA-073E8C9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79B-9AF5-470E-8310-2CAAB56E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DE8-FC32-4F41-A08D-6F439F6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FE2-E07C-4D72-8DB1-7FB59739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F86-570B-4061-AECB-C797B8FA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C6B-F477-45BD-9376-B8FBFBAB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9AB-3A8D-45E2-9D47-4996FBF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A3E-DAC9-4F04-A0C1-4C6EC697B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Transparency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2392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mission Workstream  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November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5486400"/>
            <a:ext cx="5181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sentation by Abid Sheikh, energywatch and Angela Love, Poyry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ht supply/demand positions and threats to security of supply have led to a “clambering” for information and market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initiatives have come forward to address concerns and make information more readily available to industry participants and interested pa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cations 006, 097, 104 and 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I/UKOOA initiative on North/South aggregated physical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erceived benefits from greater transparency and availability of information, with Ofgem believing this to be a requirement to ensure economic and efficient operation of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questions over commercial sensitivity of information and also the benefits to the wider market of the release of certain aspect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2293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is the optimum information transparency position and how do we ensure cost effectivene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Lands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lows into the NTS – by entry z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rminal supplies – instantaneous fl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in day daily report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B05 – System Nomination Bal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B92 – System Status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TSAFF – Aggregate Forecast flows into the 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TSAPF – Aggregate physical flows into the 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TSDE – D-2 to D-5 NTS demand forecast re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SR03 – Forecast Dem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Lands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day daily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D01 – Daily balanc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D06 – Gas trading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R04 – Actual de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S Entry end of day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4360" y="49179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952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es current information provision satisfy market nee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oposed that discussion and analysis of information transparency should commence, involving customers, Shippers, Storage Operators, Ofgem, energywatch and interested industry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 should be given to the optimum provision of information, in light of cost benefit and promotion of the relevant objectives of the U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ness and commercial sensitivity of the information should also be considered, as well as whether or not aggregate information is sufficient and mitigates against commerci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5:09:16Z</dcterms:created>
  <dc:creator>Mark J Love</dc:creator>
  <dc:description/>
  <dc:language>en-US</dc:language>
  <cp:lastModifiedBy>Abid.Sheikh</cp:lastModifiedBy>
  <dcterms:modified xsi:type="dcterms:W3CDTF">2006-10-31T17:11:50Z</dcterms:modified>
  <cp:revision>11</cp:revision>
  <dc:subject/>
  <dc:title>Information Transparency Propos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87741795</vt:r8>
  </property>
  <property fmtid="{D5CDD505-2E9C-101B-9397-08002B2CF9AE}" pid="3" name="_AuthorEmail">
    <vt:lpwstr>Abid.Sheikh@energywatch.org.uk</vt:lpwstr>
  </property>
  <property fmtid="{D5CDD505-2E9C-101B-9397-08002B2CF9AE}" pid="4" name="_AuthorEmailDisplayName">
    <vt:lpwstr>Abid Sheikh</vt:lpwstr>
  </property>
  <property fmtid="{D5CDD505-2E9C-101B-9397-08002B2CF9AE}" pid="5" name="_EmailSubject">
    <vt:lpwstr>Presentation</vt:lpwstr>
  </property>
</Properties>
</file>