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CBF6-714E-4D08-8494-886826C16B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72392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785040"/>
            <a:ext cx="72392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5CCA-B7FD-4C2E-9C25-5E7D8110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903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7850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90320" y="37850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B76D-3CC8-4ECD-9D5E-949DE742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28160" y="16538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75800" y="16538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7850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28160" y="37850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275800" y="37850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FEB7-1D96-4EC2-83B7-80D4B2903C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165384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35326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0320" y="1653840"/>
            <a:ext cx="35326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95280"/>
            <a:ext cx="72392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90320" y="1653840"/>
            <a:ext cx="35326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7850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165384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E5C0-EB3A-4A59-ACE2-056F5FF4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35326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903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90320" y="37850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903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785040"/>
            <a:ext cx="72392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72392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520" y="3785040"/>
            <a:ext cx="72392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903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520" y="37850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90320" y="37850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828160" y="16538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75800" y="16538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520" y="37850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828160" y="37850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275800" y="3785040"/>
            <a:ext cx="23306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E660-21C9-445C-AABD-E55328A3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35326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90320" y="1653840"/>
            <a:ext cx="35326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4325-4720-4F11-A4F8-F32C8248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B59D-1C00-4055-BCD5-B6089025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395280"/>
            <a:ext cx="72392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87B5-3FF6-4AD2-A562-E9AD1A7C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0320" y="1653840"/>
            <a:ext cx="35326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7850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A091-CA88-4206-909D-13B8D4BC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353268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03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90320" y="37850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B358-8AEE-46E4-9F38-28B6575E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90320" y="1653840"/>
            <a:ext cx="353268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785040"/>
            <a:ext cx="7239240" cy="19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8DE8-4080-457F-8DF2-A25AAF62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419a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5384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2500"/>
              </a:spcBef>
              <a:buClr>
                <a:srgbClr val="0c4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2500"/>
              </a:spcBef>
              <a:buClr>
                <a:srgbClr val="0c41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2500"/>
              </a:spcBef>
              <a:buClr>
                <a:srgbClr val="0c4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2500"/>
              </a:spcBef>
              <a:buClr>
                <a:srgbClr val="0c41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78640" y="6095520"/>
            <a:ext cx="3841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787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9C74-BDA5-4EF6-9CA1-2BAD2C5E865F}" type="slidenum">
              <a:rPr b="1" lang="en-US" sz="1600" spc="-1" strike="noStrike">
                <a:solidFill>
                  <a:srgbClr val="878787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0880" y="6251040"/>
            <a:ext cx="38671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WE 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npow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4AEA119B-D475-4966-8428-3A2D625BE3D5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28120" y="239760"/>
            <a:ext cx="1079280" cy="523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002440" y="6095880"/>
            <a:ext cx="381240" cy="381240"/>
          </a:xfrm>
          <a:prstGeom prst="rect">
            <a:avLst/>
          </a:prstGeom>
          <a:solidFill>
            <a:srgbClr val="3d6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hordisSans"/>
            </a:endParaRPr>
          </a:p>
        </p:txBody>
      </p:sp>
      <p:sp>
        <p:nvSpPr>
          <p:cNvPr id="6" name=""/>
          <p:cNvSpPr/>
          <p:nvPr/>
        </p:nvSpPr>
        <p:spPr>
          <a:xfrm>
            <a:off x="8383680" y="5334120"/>
            <a:ext cx="760320" cy="761760"/>
          </a:xfrm>
          <a:prstGeom prst="rect">
            <a:avLst/>
          </a:prstGeom>
          <a:solidFill>
            <a:srgbClr val="ced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hordisSans"/>
            </a:endParaRPr>
          </a:p>
        </p:txBody>
      </p:sp>
      <p:sp>
        <p:nvSpPr>
          <p:cNvPr id="7" name=""/>
          <p:cNvSpPr/>
          <p:nvPr/>
        </p:nvSpPr>
        <p:spPr>
          <a:xfrm>
            <a:off x="7050240" y="6665760"/>
            <a:ext cx="190440" cy="192240"/>
          </a:xfrm>
          <a:prstGeom prst="rect">
            <a:avLst/>
          </a:prstGeom>
          <a:solidFill>
            <a:srgbClr val="9e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hordisSans"/>
            </a:endParaRPr>
          </a:p>
        </p:txBody>
      </p:sp>
      <p:sp>
        <p:nvSpPr>
          <p:cNvPr id="8" name=""/>
          <p:cNvSpPr/>
          <p:nvPr/>
        </p:nvSpPr>
        <p:spPr>
          <a:xfrm>
            <a:off x="8758080" y="6477120"/>
            <a:ext cx="385920" cy="380880"/>
          </a:xfrm>
          <a:prstGeom prst="rect">
            <a:avLst/>
          </a:prstGeom>
          <a:solidFill>
            <a:srgbClr val="00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hordis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098440"/>
            <a:ext cx="72392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419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c419a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28120" y="239760"/>
            <a:ext cx="1079280" cy="523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002440" y="6095880"/>
            <a:ext cx="381240" cy="381240"/>
          </a:xfrm>
          <a:prstGeom prst="rect">
            <a:avLst/>
          </a:prstGeom>
          <a:solidFill>
            <a:srgbClr val="3d6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hordisSans"/>
            </a:endParaRPr>
          </a:p>
        </p:txBody>
      </p:sp>
      <p:sp>
        <p:nvSpPr>
          <p:cNvPr id="48" name=""/>
          <p:cNvSpPr/>
          <p:nvPr/>
        </p:nvSpPr>
        <p:spPr>
          <a:xfrm>
            <a:off x="8383680" y="5334120"/>
            <a:ext cx="760320" cy="761760"/>
          </a:xfrm>
          <a:prstGeom prst="rect">
            <a:avLst/>
          </a:prstGeom>
          <a:solidFill>
            <a:srgbClr val="ced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hordisSans"/>
            </a:endParaRPr>
          </a:p>
        </p:txBody>
      </p:sp>
      <p:sp>
        <p:nvSpPr>
          <p:cNvPr id="49" name=""/>
          <p:cNvSpPr/>
          <p:nvPr/>
        </p:nvSpPr>
        <p:spPr>
          <a:xfrm>
            <a:off x="7050240" y="6665760"/>
            <a:ext cx="190440" cy="192240"/>
          </a:xfrm>
          <a:prstGeom prst="rect">
            <a:avLst/>
          </a:prstGeom>
          <a:solidFill>
            <a:srgbClr val="9e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hordisSans"/>
            </a:endParaRPr>
          </a:p>
        </p:txBody>
      </p:sp>
      <p:sp>
        <p:nvSpPr>
          <p:cNvPr id="50" name=""/>
          <p:cNvSpPr/>
          <p:nvPr/>
        </p:nvSpPr>
        <p:spPr>
          <a:xfrm>
            <a:off x="8758080" y="6477120"/>
            <a:ext cx="385920" cy="380880"/>
          </a:xfrm>
          <a:prstGeom prst="rect">
            <a:avLst/>
          </a:prstGeom>
          <a:solidFill>
            <a:srgbClr val="00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hordisSan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542880"/>
            <a:ext cx="1569960" cy="333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33200" algn="ctr">
              <a:spcBef>
                <a:spcPts val="2251"/>
              </a:spcBef>
              <a:buClr>
                <a:srgbClr val="0c419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133560" algn="ctr">
              <a:spcBef>
                <a:spcPts val="2251"/>
              </a:spcBef>
              <a:buClr>
                <a:srgbClr val="0c419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52480" indent="133560" algn="ctr">
              <a:spcBef>
                <a:spcPts val="2251"/>
              </a:spcBef>
              <a:buClr>
                <a:srgbClr val="0c419a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52480" indent="1335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52480" indent="1335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098440"/>
            <a:ext cx="72392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419a"/>
                </a:solidFill>
                <a:latin typeface="Arial"/>
              </a:rPr>
              <a:t>Mod 116B</a:t>
            </a:r>
            <a:endParaRPr b="1" lang="en-US" sz="4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520" y="3330360"/>
            <a:ext cx="72392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ve Rose - on behalf of RWE Tr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419a"/>
                </a:solidFill>
                <a:latin typeface="Arial"/>
              </a:rPr>
              <a:t>Background</a:t>
            </a: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7840" indent="-3578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 116 B was raised after discussion with a number of shippers about aspects Mod 116 which were unduly complex and which increased shipper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fgem decide Mod 116 does better facilitate the achievement of the relevant objectives they can then consider if Mod 116B does so more strong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fgem decided that Mod 116 does not better facilitate the achievement of the relevant objectives then neither should Mod 116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r qualified support of Mod 116B does not stop Users from supporting Mods 116 and/or Mod 116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8BA6-5029-46C9-A066-A6229320DB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419a"/>
                </a:solidFill>
                <a:latin typeface="Arial"/>
              </a:rPr>
              <a:t>Section 1</a:t>
            </a: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990360"/>
            <a:ext cx="35431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327240" indent="-327240">
              <a:spcBef>
                <a:spcPts val="2251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User may not offtake gas at a rate of offtake which exceeds or is less than the OPN Prevailing Offtake Rate by more than the relevant tolerance specified in Network Exi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spcBef>
                <a:spcPts val="2251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xA tolerance = 3%. DN tolerance = 10% at an individual offtake and 3% at all offtakes in an L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spcBef>
                <a:spcPts val="2251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5% overall tolerance not sufficient to take account of a Users NExA flow entitlement and Users could incur an overrun by complying with their NExA as shown in this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7520" y="609480"/>
          <a:ext cx="38322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609480"/>
                    <a:ext cx="38322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5D81-C9EA-421B-B508-BBAB68E312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419a"/>
                </a:solidFill>
                <a:latin typeface="Arial"/>
              </a:rPr>
              <a:t>Section 2</a:t>
            </a: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93040" indent="-2930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Firm Supply Points commissioned prior to the Enduring Arrangements to have an Initial Prevailing NTS Exit (Flat) Capacity holding based on their first registered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rification on latest date for reducing Initial Prevailing NTS Exit (Flat) Capacit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040" indent="-2930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inction made between release/reduction of Prevailing NTS Exit (Flat) Capacity at new and existing exit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19600">
              <a:spcBef>
                <a:spcPts val="2251"/>
              </a:spcBef>
              <a:buClr>
                <a:srgbClr val="0c4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ers (Users and non UNC parties) shall use reasonable endeavours to make a user commitment in the July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19600">
              <a:spcBef>
                <a:spcPts val="2251"/>
              </a:spcBef>
              <a:buClr>
                <a:srgbClr val="0c4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 shall use reasonable endeavours to make new capacity available within the desired timescales if user commitment given outside July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19600">
              <a:spcBef>
                <a:spcPts val="2251"/>
              </a:spcBef>
              <a:buClr>
                <a:srgbClr val="0c4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 shall use reasonable endeavours to make new capacity available from a date other than the start of the Gas Year provided user commitment is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71FD-7624-4E76-A4B1-EE1A725504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419a"/>
                </a:solidFill>
                <a:latin typeface="Arial"/>
              </a:rPr>
              <a:t>Section 3 - 6</a:t>
            </a: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65384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2960" indent="-37296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User does not rely on the annual auctions to secure NTS Exit (Flexibility) Capacity and re-submission of its OPN reduces the amount of capacity required (based on its original OPN) the allocated capacity should be reduced according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time for NTS Exit (Flexibility) Capacity between Exit Zones to be aligned with initial OPN submissi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 and assignment of NTS Exit Capacity (Flat and Flex) to be a matched process prior to acceptance to avoid erros being automatically accepted (as per Entry and NB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changes to sections 5 &amp;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2A23-5D7D-436F-8F3C-F5382F57D3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419a"/>
                </a:solidFill>
                <a:latin typeface="Arial"/>
              </a:rPr>
              <a:t>Section 7 </a:t>
            </a: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316080" indent="-31608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 to NTS Exit (Flexibility) Commodity Charg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% tolerance increased to 3% in overru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TS Exit (Flexibility) Overruns only to be incurred if there is an aggregate overrun and the day has been declared a “flexible constraint 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ef from overrun charges arising from intertrips or forced outages in the same way as for NTS Exit Capacity constraints management actions taken by 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TS Exit Capacity neutrality arrangements to be split into separate pots for flat and flex costs/revenues. Flat neutrality to be smeared based on proportion of national flat capacity. Flex neutrality to be smeared based on proportion of area flex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A5A1-5912-4F71-AFB2-F7E7FB9457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419a"/>
                </a:solidFill>
                <a:latin typeface="Arial"/>
              </a:rPr>
              <a:t>Sections 8 - 10</a:t>
            </a: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35160" indent="-33516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s to Section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 to be required to publish the following information once the enduring arrangements take 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spcBef>
                <a:spcPts val="2251"/>
              </a:spcBef>
              <a:buClr>
                <a:srgbClr val="0c4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utilisation of NTS Exit (Flexibility) Capacity in each zone for each gas day (by 11:00 hrs D+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spcBef>
                <a:spcPts val="2251"/>
              </a:spcBef>
              <a:buClr>
                <a:srgbClr val="0c4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S Exit (Flexibility) Overrun quantity and charges for each gas day in e NTS Exit 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 to be required to publish the following information w.e.f. 1/7/0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50920">
              <a:spcBef>
                <a:spcPts val="2251"/>
              </a:spcBef>
              <a:buClr>
                <a:srgbClr val="0c4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the NTS Exit (Flexibility) Capacity expected to be utilised in each zone based on the initial OPN submissions D-1 and subsequently fore each hour within the ga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1B3E-4C0F-4EA0-A948-4915D8E889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95280"/>
            <a:ext cx="72392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419a"/>
                </a:solidFill>
                <a:latin typeface="Arial"/>
              </a:rPr>
              <a:t>Advantages</a:t>
            </a:r>
            <a:endParaRPr b="1" lang="en-US" sz="3000" spc="-1" strike="noStrike">
              <a:solidFill>
                <a:srgbClr val="0c419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7239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23640" indent="-3236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to lessen the extent of User system build by lessening Users exposure to overrun charges and flex commodity char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s the rigidity of developers having to signal new capacity requirements within an annual July window and for an October st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 landing approach to such fundamental r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s overrun exposure caused by intertrips/forced ou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rgets flex neutrality cost/revenue only to User’s who utilise flex (as opposed to flat capacity) and only at zones where they offtake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spcBef>
                <a:spcPts val="2500"/>
              </a:spcBef>
              <a:buClr>
                <a:srgbClr val="0c419a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information on flex utilisation in advance of the first opportunity Users have to acquire it to better inform their bidding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53EB-E6CC-4FA3-8309-9CEC7E5F3A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8:10Z</dcterms:created>
  <dc:creator>svc_wsbuild</dc:creator>
  <dc:description/>
  <dc:language>en-US</dc:language>
  <cp:lastModifiedBy>svc_wsbuild</cp:lastModifiedBy>
  <cp:lastPrinted>2000-12-14T10:21:36Z</cp:lastPrinted>
  <dcterms:modified xsi:type="dcterms:W3CDTF">2006-11-01T17:15:59Z</dcterms:modified>
  <cp:revision>6</cp:revision>
  <dc:subject/>
  <dc:title>Mod 116B</dc:title>
</cp:coreProperties>
</file>