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5920" y="88920"/>
            <a:ext cx="8516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0000" b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193760"/>
            <a:ext cx="853452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520" y="3714840"/>
            <a:ext cx="853452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5920" y="88920"/>
            <a:ext cx="8516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0000" b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193760"/>
            <a:ext cx="416484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54160" y="1193760"/>
            <a:ext cx="416484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3714840"/>
            <a:ext cx="416484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54160" y="3714840"/>
            <a:ext cx="416484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5920" y="88920"/>
            <a:ext cx="8516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0000" b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193760"/>
            <a:ext cx="274788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66280" y="1193760"/>
            <a:ext cx="274788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51680" y="1193760"/>
            <a:ext cx="274788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520" y="3714840"/>
            <a:ext cx="274788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66280" y="3714840"/>
            <a:ext cx="274788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51680" y="3714840"/>
            <a:ext cx="274788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5920" y="88920"/>
            <a:ext cx="8516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0000" b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520" y="1193760"/>
            <a:ext cx="8534520" cy="482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5920" y="88920"/>
            <a:ext cx="8516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0000" b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520" y="1193760"/>
            <a:ext cx="853452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5920" y="88920"/>
            <a:ext cx="8516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0000" b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520" y="1193760"/>
            <a:ext cx="416484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4160" y="1193760"/>
            <a:ext cx="416484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5920" y="88920"/>
            <a:ext cx="8516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0000" b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85920" y="88920"/>
            <a:ext cx="851688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5920" y="88920"/>
            <a:ext cx="8516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0000" b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193760"/>
            <a:ext cx="416484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54160" y="1193760"/>
            <a:ext cx="416484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80520" y="3714840"/>
            <a:ext cx="416484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5920" y="88920"/>
            <a:ext cx="8516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0000" b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520" y="1193760"/>
            <a:ext cx="8534520" cy="482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5920" y="88920"/>
            <a:ext cx="8516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0000" b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193760"/>
            <a:ext cx="416484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54160" y="1193760"/>
            <a:ext cx="416484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54160" y="3714840"/>
            <a:ext cx="416484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5920" y="88920"/>
            <a:ext cx="8516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0000" b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193760"/>
            <a:ext cx="416484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54160" y="1193760"/>
            <a:ext cx="416484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520" y="3714840"/>
            <a:ext cx="853452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5920" y="88920"/>
            <a:ext cx="8516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0000" b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193760"/>
            <a:ext cx="853452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80520" y="3714840"/>
            <a:ext cx="853452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5920" y="88920"/>
            <a:ext cx="8516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0000" b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520" y="1193760"/>
            <a:ext cx="416484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54160" y="1193760"/>
            <a:ext cx="416484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80520" y="3714840"/>
            <a:ext cx="416484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54160" y="3714840"/>
            <a:ext cx="416484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5920" y="88920"/>
            <a:ext cx="8516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0000" b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193760"/>
            <a:ext cx="274788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66280" y="1193760"/>
            <a:ext cx="274788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51680" y="1193760"/>
            <a:ext cx="274788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80520" y="3714840"/>
            <a:ext cx="274788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66280" y="3714840"/>
            <a:ext cx="274788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51680" y="3714840"/>
            <a:ext cx="274788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5920" y="88920"/>
            <a:ext cx="8516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0000" b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193760"/>
            <a:ext cx="853452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5920" y="88920"/>
            <a:ext cx="8516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0000" b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193760"/>
            <a:ext cx="416484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54160" y="1193760"/>
            <a:ext cx="416484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5920" y="88920"/>
            <a:ext cx="8516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0000" b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5920" y="88920"/>
            <a:ext cx="851688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5920" y="88920"/>
            <a:ext cx="8516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0000" b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193760"/>
            <a:ext cx="416484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54160" y="1193760"/>
            <a:ext cx="416484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520" y="3714840"/>
            <a:ext cx="416484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5920" y="88920"/>
            <a:ext cx="8516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0000" b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193760"/>
            <a:ext cx="416484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54160" y="1193760"/>
            <a:ext cx="416484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54160" y="3714840"/>
            <a:ext cx="416484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5920" y="88920"/>
            <a:ext cx="8516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0000" b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193760"/>
            <a:ext cx="416484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4160" y="1193760"/>
            <a:ext cx="416484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3714840"/>
            <a:ext cx="853452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5920" y="88920"/>
            <a:ext cx="8516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0000" b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520" y="1193760"/>
            <a:ext cx="853452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700"/>
              </a:spcBef>
              <a:buClr>
                <a:srgbClr val="0066cc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185760">
              <a:spcBef>
                <a:spcPts val="700"/>
              </a:spcBef>
              <a:buClr>
                <a:srgbClr val="0066cc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79640" indent="-187560">
              <a:spcBef>
                <a:spcPts val="700"/>
              </a:spcBef>
              <a:buClr>
                <a:srgbClr val="0066cc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36680" indent="184320">
              <a:spcBef>
                <a:spcPts val="700"/>
              </a:spcBef>
              <a:buClr>
                <a:srgbClr val="0070c8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3006720" indent="-129528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3006720" indent="-12952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3006720" indent="-12952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79440" y="1130400"/>
            <a:ext cx="8567640" cy="0"/>
          </a:xfrm>
          <a:prstGeom prst="line">
            <a:avLst/>
          </a:prstGeom>
          <a:ln w="38160">
            <a:solidFill>
              <a:srgbClr val="fdd4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rcRect l="0" t="0" r="0" b="12275"/>
          <a:stretch/>
        </p:blipFill>
        <p:spPr>
          <a:xfrm>
            <a:off x="6877080" y="5846760"/>
            <a:ext cx="2266920" cy="82404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-12600" y="6703920"/>
            <a:ext cx="9165960" cy="179640"/>
          </a:xfrm>
          <a:prstGeom prst="rect">
            <a:avLst/>
          </a:prstGeom>
          <a:solidFill>
            <a:srgbClr val="649f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-22320" y="0"/>
            <a:ext cx="179640" cy="6873840"/>
          </a:xfrm>
          <a:prstGeom prst="rect">
            <a:avLst/>
          </a:prstGeom>
          <a:solidFill>
            <a:srgbClr val="649f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520" y="838080"/>
            <a:ext cx="82774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79440" y="2425680"/>
            <a:ext cx="8567640" cy="0"/>
          </a:xfrm>
          <a:prstGeom prst="line">
            <a:avLst/>
          </a:prstGeom>
          <a:ln w="38160">
            <a:solidFill>
              <a:srgbClr val="fdd4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877080" y="5850000"/>
            <a:ext cx="2266920" cy="9316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-28440" y="6703920"/>
            <a:ext cx="9165960" cy="179640"/>
          </a:xfrm>
          <a:prstGeom prst="rect">
            <a:avLst/>
          </a:prstGeom>
          <a:solidFill>
            <a:srgbClr val="649f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-27000" y="0"/>
            <a:ext cx="179280" cy="6870600"/>
          </a:xfrm>
          <a:prstGeom prst="rect">
            <a:avLst/>
          </a:prstGeom>
          <a:solidFill>
            <a:srgbClr val="649f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185760" algn="ctr">
              <a:spcBef>
                <a:spcPts val="601"/>
              </a:spcBef>
              <a:buClr>
                <a:srgbClr val="0066cc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9640" indent="-187560" algn="ctr">
              <a:spcBef>
                <a:spcPts val="499"/>
              </a:spcBef>
              <a:buClr>
                <a:srgbClr val="0066cc"/>
              </a:buClr>
              <a:buSzPct val="70000"/>
              <a:buFont typeface="Wingdings 2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6680" indent="184320" algn="ctr">
              <a:spcBef>
                <a:spcPts val="451"/>
              </a:spcBef>
              <a:buClr>
                <a:srgbClr val="0070c8"/>
              </a:buClr>
              <a:buSzPct val="60000"/>
              <a:buFont typeface="Wingdings 2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762120" indent="94932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762120" indent="94932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762120" indent="94932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520" y="838080"/>
            <a:ext cx="82774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posed DN Pensions Deficit Charg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380520" y="2577600"/>
            <a:ext cx="827748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000" bIns="360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ransmission Workstream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2 November 200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5920" y="88920"/>
            <a:ext cx="8516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0000" b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posed DN Pensions Deficit Charg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520" y="1193760"/>
            <a:ext cx="853452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0066cc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owance in Transmission Price Control to be included for deficit in National Grid UK Pensions Scheme (formally LG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601"/>
              </a:spcBef>
              <a:buClr>
                <a:srgbClr val="0066cc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ational Grid NTS to recover deficit cost relating to DN former employees, via new transportation charge on D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601"/>
              </a:spcBef>
              <a:buClr>
                <a:srgbClr val="0066cc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nual allowance in respect of each DN to be “hard-coded” in NTS’ GT Licence and each DN GT Lic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10000"/>
              </a:lnSpc>
              <a:spcBef>
                <a:spcPts val="601"/>
              </a:spcBef>
              <a:buClr>
                <a:srgbClr val="0066cc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qui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185760">
              <a:lnSpc>
                <a:spcPct val="110000"/>
              </a:lnSpc>
              <a:spcBef>
                <a:spcPts val="499"/>
              </a:spcBef>
              <a:buClr>
                <a:srgbClr val="0066cc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NC Modification Proposal required to define new charge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185760">
              <a:lnSpc>
                <a:spcPct val="110000"/>
              </a:lnSpc>
              <a:spcBef>
                <a:spcPts val="499"/>
              </a:spcBef>
              <a:buClr>
                <a:srgbClr val="0066cc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harging Methodology change to describe determination new charge am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5920" y="88920"/>
            <a:ext cx="8516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0000" b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posed DN Pensions Deficit Charge – Next Step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0520" y="1193760"/>
            <a:ext cx="853452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30360" indent="-185760">
              <a:spcBef>
                <a:spcPts val="601"/>
              </a:spcBef>
              <a:buClr>
                <a:srgbClr val="0066cc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need to raise UNC Modification Proposal at November Mod Panel me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185760">
              <a:spcBef>
                <a:spcPts val="601"/>
              </a:spcBef>
              <a:buClr>
                <a:srgbClr val="0066cc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k to implement by 1 Feb 2007 (to provide 2 months notice period for 1 April 200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185760">
              <a:spcBef>
                <a:spcPts val="601"/>
              </a:spcBef>
              <a:buClr>
                <a:srgbClr val="0066cc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cing Consultation Paper to be issued in early Nove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31T09:31:56Z</dcterms:created>
  <dc:creator> </dc:creator>
  <dc:description/>
  <dc:language>en-US</dc:language>
  <cp:lastModifiedBy>Paul.a.roberts</cp:lastModifiedBy>
  <dcterms:modified xsi:type="dcterms:W3CDTF">2006-11-02T09:50:45Z</dcterms:modified>
  <cp:revision>133</cp:revision>
  <dc:subject/>
  <dc:title>LTSEC Auction Timetable</dc:title>
</cp:coreProperties>
</file>