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85345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714840"/>
            <a:ext cx="85345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71484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484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19376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19376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71484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71484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71484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193760"/>
            <a:ext cx="853452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85345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5920" y="88920"/>
            <a:ext cx="8516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71484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193760"/>
            <a:ext cx="853452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4160" y="371484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714840"/>
            <a:ext cx="85345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85345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3714840"/>
            <a:ext cx="85345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71484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4160" y="371484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6280" y="119376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1680" y="119376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371484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6280" y="371484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1680" y="371484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85345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5920" y="88920"/>
            <a:ext cx="8516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71484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484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714840"/>
            <a:ext cx="85345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193760"/>
            <a:ext cx="85345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5760">
              <a:spcBef>
                <a:spcPts val="700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87560">
              <a:spcBef>
                <a:spcPts val="700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6680" indent="184320">
              <a:spcBef>
                <a:spcPts val="700"/>
              </a:spcBef>
              <a:buClr>
                <a:srgbClr val="0070c8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006720" indent="-129528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006720" indent="-1295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006720" indent="-1295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9440" y="1130400"/>
            <a:ext cx="8567640" cy="0"/>
          </a:xfrm>
          <a:prstGeom prst="line">
            <a:avLst/>
          </a:prstGeom>
          <a:ln w="38160">
            <a:solidFill>
              <a:srgbClr val="fdd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0" r="0" b="12275"/>
          <a:stretch/>
        </p:blipFill>
        <p:spPr>
          <a:xfrm>
            <a:off x="6877080" y="5846760"/>
            <a:ext cx="2266920" cy="824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12600" y="6703920"/>
            <a:ext cx="9165960" cy="179640"/>
          </a:xfrm>
          <a:prstGeom prst="rect">
            <a:avLst/>
          </a:prstGeom>
          <a:solidFill>
            <a:srgbClr val="649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22320" y="0"/>
            <a:ext cx="179640" cy="6873840"/>
          </a:xfrm>
          <a:prstGeom prst="rect">
            <a:avLst/>
          </a:prstGeom>
          <a:solidFill>
            <a:srgbClr val="649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277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9440" y="2425680"/>
            <a:ext cx="8567640" cy="0"/>
          </a:xfrm>
          <a:prstGeom prst="line">
            <a:avLst/>
          </a:prstGeom>
          <a:ln w="38160">
            <a:solidFill>
              <a:srgbClr val="fdd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5850000"/>
            <a:ext cx="2266920" cy="931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28440" y="6703920"/>
            <a:ext cx="9165960" cy="179640"/>
          </a:xfrm>
          <a:prstGeom prst="rect">
            <a:avLst/>
          </a:prstGeom>
          <a:solidFill>
            <a:srgbClr val="649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7000" y="0"/>
            <a:ext cx="179280" cy="6870600"/>
          </a:xfrm>
          <a:prstGeom prst="rect">
            <a:avLst/>
          </a:prstGeom>
          <a:solidFill>
            <a:srgbClr val="649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185760" algn="ctr">
              <a:spcBef>
                <a:spcPts val="601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87560" algn="ctr">
              <a:spcBef>
                <a:spcPts val="499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6680" indent="184320" algn="ctr">
              <a:spcBef>
                <a:spcPts val="451"/>
              </a:spcBef>
              <a:buClr>
                <a:srgbClr val="0070c8"/>
              </a:buClr>
              <a:buSzPct val="60000"/>
              <a:buFont typeface="Wingdings 2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762120" indent="94932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762120" indent="9493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762120" indent="9493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277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 Modification Proposal 0116 - Vari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2577600"/>
            <a:ext cx="82774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ssion Workstre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nd November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it Reform Up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85345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s under consultation – close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576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 0116 and alter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576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ing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576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apacity Release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576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 0116 legal text walkthrough held on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s made to am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576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 of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576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to request variations to 0116 at Nov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 Information Pro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85345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allows Users to only signal additional flat capacity in July of Gas Year Y for use from Gas Year Y+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57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July 2007 for use from Oct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 for greater flexi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57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nformation for years beyond Y+4 could result in inefficient NTS and LDZ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to allow Users to also signal increase for Gas Year Y+5 and Gas Year Y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 Information Pro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971640" y="2637000"/>
            <a:ext cx="0" cy="2952720"/>
          </a:xfrm>
          <a:prstGeom prst="line">
            <a:avLst/>
          </a:prstGeom>
          <a:ln w="1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5589720"/>
            <a:ext cx="6696000" cy="0"/>
          </a:xfrm>
          <a:prstGeom prst="line">
            <a:avLst/>
          </a:prstGeom>
          <a:ln w="1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4510080"/>
            <a:ext cx="1079280" cy="1079640"/>
          </a:xfrm>
          <a:prstGeom prst="rect">
            <a:avLst/>
          </a:prstGeom>
          <a:solidFill>
            <a:srgbClr val="d40139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4076640"/>
            <a:ext cx="1079640" cy="1511280"/>
          </a:xfrm>
          <a:prstGeom prst="rect">
            <a:avLst/>
          </a:prstGeom>
          <a:solidFill>
            <a:srgbClr val="d40139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656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3892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8984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092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3573360"/>
            <a:ext cx="1079640" cy="2014560"/>
          </a:xfrm>
          <a:prstGeom prst="rect">
            <a:avLst/>
          </a:prstGeom>
          <a:solidFill>
            <a:srgbClr val="d40139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7928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773360"/>
            <a:ext cx="6709320" cy="673560"/>
          </a:xfrm>
          <a:prstGeom prst="rect">
            <a:avLst/>
          </a:prstGeom>
          <a:noFill/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- User requests in Gas Year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units from Y+4, 15 units from Y+5 and 20 units from Y+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7640" y="4405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7640" y="39337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7640" y="34290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5856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341360"/>
            <a:ext cx="8207280" cy="305280"/>
          </a:xfrm>
          <a:prstGeom prst="rect">
            <a:avLst/>
          </a:prstGeom>
          <a:noFill/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 – Each request commits User to “4 years of capacity charge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3573360"/>
            <a:ext cx="2592360" cy="0"/>
          </a:xfrm>
          <a:prstGeom prst="line">
            <a:avLst/>
          </a:prstGeom>
          <a:ln w="1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4005360"/>
            <a:ext cx="32796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s continue at this level until  request reduction/incr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3132000" y="3573360"/>
            <a:ext cx="4248000" cy="2016000"/>
            <a:chOff x="3132000" y="3573360"/>
            <a:chExt cx="4248000" cy="2016000"/>
          </a:xfrm>
        </p:grpSpPr>
        <p:sp>
          <p:nvSpPr>
            <p:cNvPr id="110" name=""/>
            <p:cNvSpPr/>
            <p:nvPr/>
          </p:nvSpPr>
          <p:spPr>
            <a:xfrm>
              <a:off x="4194720" y="3573360"/>
              <a:ext cx="1061280" cy="1438560"/>
            </a:xfrm>
            <a:prstGeom prst="rect">
              <a:avLst/>
            </a:prstGeom>
            <a:solidFill>
              <a:srgbClr val="ffcc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6000" y="3573360"/>
              <a:ext cx="1061280" cy="1438560"/>
            </a:xfrm>
            <a:prstGeom prst="rect">
              <a:avLst/>
            </a:prstGeom>
            <a:solidFill>
              <a:srgbClr val="ffcc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2000" y="3573360"/>
              <a:ext cx="1061280" cy="1438560"/>
            </a:xfrm>
            <a:prstGeom prst="rect">
              <a:avLst/>
            </a:prstGeom>
            <a:solidFill>
              <a:srgbClr val="ffcc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18720" y="3573360"/>
              <a:ext cx="1061280" cy="2016000"/>
            </a:xfrm>
            <a:prstGeom prst="rect">
              <a:avLst/>
            </a:prstGeom>
            <a:solidFill>
              <a:srgbClr val="ffcc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050920" y="4076640"/>
            <a:ext cx="4321440" cy="1513080"/>
            <a:chOff x="2050920" y="4076640"/>
            <a:chExt cx="4321440" cy="1513080"/>
          </a:xfrm>
        </p:grpSpPr>
        <p:sp>
          <p:nvSpPr>
            <p:cNvPr id="115" name=""/>
            <p:cNvSpPr/>
            <p:nvPr/>
          </p:nvSpPr>
          <p:spPr>
            <a:xfrm>
              <a:off x="3132000" y="4076640"/>
              <a:ext cx="1079640" cy="1079640"/>
            </a:xfrm>
            <a:prstGeom prst="rect">
              <a:avLst/>
            </a:prstGeom>
            <a:solidFill>
              <a:srgbClr val="bddced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11640" y="4076640"/>
              <a:ext cx="1079640" cy="1079640"/>
            </a:xfrm>
            <a:prstGeom prst="rect">
              <a:avLst/>
            </a:prstGeom>
            <a:solidFill>
              <a:srgbClr val="bddced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0920" y="4076640"/>
              <a:ext cx="1079640" cy="1079640"/>
            </a:xfrm>
            <a:prstGeom prst="rect">
              <a:avLst/>
            </a:prstGeom>
            <a:solidFill>
              <a:srgbClr val="bddced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92720" y="4076640"/>
              <a:ext cx="1079640" cy="1513080"/>
            </a:xfrm>
            <a:prstGeom prst="rect">
              <a:avLst/>
            </a:prstGeom>
            <a:solidFill>
              <a:srgbClr val="bddced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 Information Pro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971640" y="2637000"/>
            <a:ext cx="0" cy="2952720"/>
          </a:xfrm>
          <a:prstGeom prst="line">
            <a:avLst/>
          </a:prstGeom>
          <a:ln w="1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5589720"/>
            <a:ext cx="6696000" cy="0"/>
          </a:xfrm>
          <a:prstGeom prst="line">
            <a:avLst/>
          </a:prstGeom>
          <a:ln w="1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4510080"/>
            <a:ext cx="1079280" cy="1079640"/>
          </a:xfrm>
          <a:prstGeom prst="rect">
            <a:avLst/>
          </a:prstGeom>
          <a:solidFill>
            <a:srgbClr val="d40139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4508640"/>
            <a:ext cx="1079640" cy="1079280"/>
          </a:xfrm>
          <a:prstGeom prst="rect">
            <a:avLst/>
          </a:prstGeom>
          <a:solidFill>
            <a:srgbClr val="d40139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4508640"/>
            <a:ext cx="1079640" cy="1079280"/>
          </a:xfrm>
          <a:prstGeom prst="rect">
            <a:avLst/>
          </a:prstGeom>
          <a:solidFill>
            <a:srgbClr val="d40139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8656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3892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8984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092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4508640"/>
            <a:ext cx="1079640" cy="1079280"/>
          </a:xfrm>
          <a:prstGeom prst="rect">
            <a:avLst/>
          </a:prstGeom>
          <a:solidFill>
            <a:srgbClr val="d40139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7928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557360"/>
            <a:ext cx="7705800" cy="610200"/>
          </a:xfrm>
          <a:prstGeom prst="rect">
            <a:avLst/>
          </a:prstGeom>
          <a:noFill/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R Option 1: User committed to pay prevailing capacity charges for 4 years based on volume of each requ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7640" y="4405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7640" y="39337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7640" y="34290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5856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3860640"/>
            <a:ext cx="1081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x charges for Y+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3357720"/>
            <a:ext cx="1152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 x charges for Y+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95640" y="3284640"/>
            <a:ext cx="280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x charges for Y+6 to Y+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6093000"/>
            <a:ext cx="2087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9040" y="6093000"/>
            <a:ext cx="73008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Commitment Amount = Price Y+4 x 10 + Price Y+5 x 15 + Price Y+6 x 20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 Y+7 x 20 + Price Y+8 x 20 + Price Y+9 x 2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3132000" y="3573360"/>
            <a:ext cx="4248000" cy="2016000"/>
            <a:chOff x="3132000" y="3573360"/>
            <a:chExt cx="4248000" cy="2016000"/>
          </a:xfrm>
        </p:grpSpPr>
        <p:sp>
          <p:nvSpPr>
            <p:cNvPr id="142" name=""/>
            <p:cNvSpPr/>
            <p:nvPr/>
          </p:nvSpPr>
          <p:spPr>
            <a:xfrm>
              <a:off x="4194720" y="3573360"/>
              <a:ext cx="1061280" cy="1438560"/>
            </a:xfrm>
            <a:prstGeom prst="rect">
              <a:avLst/>
            </a:prstGeom>
            <a:solidFill>
              <a:srgbClr val="ffcc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56000" y="3573360"/>
              <a:ext cx="1061280" cy="1438560"/>
            </a:xfrm>
            <a:prstGeom prst="rect">
              <a:avLst/>
            </a:prstGeom>
            <a:solidFill>
              <a:srgbClr val="ffcc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2000" y="3573360"/>
              <a:ext cx="1061280" cy="1438560"/>
            </a:xfrm>
            <a:prstGeom prst="rect">
              <a:avLst/>
            </a:prstGeom>
            <a:solidFill>
              <a:srgbClr val="ffcc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18720" y="3573360"/>
              <a:ext cx="1061280" cy="2016000"/>
            </a:xfrm>
            <a:prstGeom prst="rect">
              <a:avLst/>
            </a:prstGeom>
            <a:solidFill>
              <a:srgbClr val="ffcc00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050920" y="4076640"/>
            <a:ext cx="4321440" cy="1513080"/>
            <a:chOff x="2050920" y="4076640"/>
            <a:chExt cx="4321440" cy="1513080"/>
          </a:xfrm>
        </p:grpSpPr>
        <p:sp>
          <p:nvSpPr>
            <p:cNvPr id="147" name=""/>
            <p:cNvSpPr/>
            <p:nvPr/>
          </p:nvSpPr>
          <p:spPr>
            <a:xfrm>
              <a:off x="3132000" y="4076640"/>
              <a:ext cx="1079640" cy="1079640"/>
            </a:xfrm>
            <a:prstGeom prst="rect">
              <a:avLst/>
            </a:prstGeom>
            <a:solidFill>
              <a:srgbClr val="bddced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11640" y="4076640"/>
              <a:ext cx="1079640" cy="1079640"/>
            </a:xfrm>
            <a:prstGeom prst="rect">
              <a:avLst/>
            </a:prstGeom>
            <a:solidFill>
              <a:srgbClr val="bddced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0920" y="4076640"/>
              <a:ext cx="1079640" cy="1079640"/>
            </a:xfrm>
            <a:prstGeom prst="rect">
              <a:avLst/>
            </a:prstGeom>
            <a:solidFill>
              <a:srgbClr val="bddced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92720" y="4076640"/>
              <a:ext cx="1079640" cy="1513080"/>
            </a:xfrm>
            <a:prstGeom prst="rect">
              <a:avLst/>
            </a:prstGeom>
            <a:solidFill>
              <a:srgbClr val="bddced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 Information Pro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971640" y="2637000"/>
            <a:ext cx="0" cy="2952720"/>
          </a:xfrm>
          <a:prstGeom prst="line">
            <a:avLst/>
          </a:prstGeom>
          <a:ln w="1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5589720"/>
            <a:ext cx="6696000" cy="0"/>
          </a:xfrm>
          <a:prstGeom prst="line">
            <a:avLst/>
          </a:prstGeom>
          <a:ln w="1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4510080"/>
            <a:ext cx="1079280" cy="1079640"/>
          </a:xfrm>
          <a:prstGeom prst="rect">
            <a:avLst/>
          </a:prstGeom>
          <a:solidFill>
            <a:srgbClr val="d40139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4508640"/>
            <a:ext cx="1079640" cy="1079280"/>
          </a:xfrm>
          <a:prstGeom prst="rect">
            <a:avLst/>
          </a:prstGeom>
          <a:solidFill>
            <a:srgbClr val="d40139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4508640"/>
            <a:ext cx="1079640" cy="1079280"/>
          </a:xfrm>
          <a:prstGeom prst="rect">
            <a:avLst/>
          </a:prstGeom>
          <a:solidFill>
            <a:srgbClr val="d40139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8656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3892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8984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092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4508640"/>
            <a:ext cx="1079640" cy="1079280"/>
          </a:xfrm>
          <a:prstGeom prst="rect">
            <a:avLst/>
          </a:prstGeom>
          <a:solidFill>
            <a:srgbClr val="d40139"/>
          </a:solidFill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7928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1268280"/>
            <a:ext cx="7705800" cy="1220040"/>
          </a:xfrm>
          <a:prstGeom prst="rect">
            <a:avLst/>
          </a:prstGeom>
          <a:noFill/>
          <a:ln w="1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R Option 2: User committed to pay prevailing capacity charges for number of years until meets User Commitment Amount -  4 years of charges for each request based on price at time of app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7640" y="4405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7640" y="39337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7640" y="34290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58560" y="5661000"/>
            <a:ext cx="46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6093000"/>
            <a:ext cx="2087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400" y="6165720"/>
            <a:ext cx="7294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Commitment Amount = Price at Application x (10 + 15 + 20 + 20 + 20 + 2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08000" y="2421000"/>
            <a:ext cx="8136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 prevailing charges as under option 1, but reduction request may be allowed earl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 remaining User Commitment Amount each Sept – if met, request accepted and reduction effective from start of requested Gas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2:33:35Z</dcterms:created>
  <dc:creator>Transco</dc:creator>
  <dc:description/>
  <dc:language>en-US</dc:language>
  <cp:lastModifiedBy>Paul.a.roberts</cp:lastModifiedBy>
  <dcterms:modified xsi:type="dcterms:W3CDTF">2006-11-02T09:38:28Z</dcterms:modified>
  <cp:revision>588</cp:revision>
  <dc:subject/>
  <dc:title>NTS Exit Reform – Strawman Proposal</dc:title>
</cp:coreProperties>
</file>